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87A-D785-4F40-8A95-AC7B4819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E6B1-003D-4559-8DC9-8A705091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B2B-E9AF-42F6-AA1B-7B9A2A0D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99B-BF61-4D49-80D9-7E9F403D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02E-C7A7-47EF-9ABE-6179844D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B5E-D24A-46AA-8344-31F0B19B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637-7BB2-4475-B67C-B76DEE48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1A6-FF7D-495E-BC33-E17BA228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8C4-1A54-4512-BEE8-8DF2DB33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12B-E4F1-4AF2-BB48-3EE7DF84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9DE-A780-454E-80A0-7733CDC9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1E4-4441-4163-B07E-278D7392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4101-A8B9-4EAF-B939-D0A7A196F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the following fractions to decimals and then order them greatest to l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743200" y="3251160"/>
                <a:ext cx="30481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224000" y="3544920"/>
            <a:ext cx="115920" cy="169920"/>
          </a:xfrm>
          <a:custGeom>
            <a:avLst/>
            <a:gdLst/>
            <a:ahLst/>
            <a:rect l="l" t="t" r="r" b="b"/>
            <a:pathLst>
              <a:path w="324" h="473">
                <a:moveTo>
                  <a:pt x="3522" y="9847"/>
                </a:moveTo>
                <a:cubicBezTo>
                  <a:pt x="3409" y="9938"/>
                  <a:pt x="3407" y="10098"/>
                  <a:pt x="3398" y="10244"/>
                </a:cubicBezTo>
                <a:cubicBezTo>
                  <a:pt x="3398" y="10261"/>
                  <a:pt x="3398" y="10277"/>
                  <a:pt x="3398" y="10294"/>
                </a:cubicBezTo>
                <a:cubicBezTo>
                  <a:pt x="3533" y="10335"/>
                  <a:pt x="3649" y="10313"/>
                  <a:pt x="3721" y="10170"/>
                </a:cubicBezTo>
                <a:cubicBezTo>
                  <a:pt x="3758" y="10095"/>
                  <a:pt x="3642" y="10199"/>
                  <a:pt x="3597" y="102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98720" y="3643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051" y="10120"/>
                </a:moveTo>
                <a:lnTo>
                  <a:pt x="3051" y="10120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0960" y="3705120"/>
            <a:ext cx="490320" cy="277920"/>
          </a:xfrm>
          <a:custGeom>
            <a:avLst/>
            <a:gdLst/>
            <a:ahLst/>
            <a:rect l="l" t="t" r="r" b="b"/>
            <a:pathLst>
              <a:path w="1365" h="770">
                <a:moveTo>
                  <a:pt x="2183" y="11063"/>
                </a:moveTo>
                <a:cubicBezTo>
                  <a:pt x="2169" y="10818"/>
                  <a:pt x="2122" y="10585"/>
                  <a:pt x="2084" y="10344"/>
                </a:cubicBezTo>
                <a:cubicBezTo>
                  <a:pt x="2084" y="10327"/>
                  <a:pt x="2084" y="10311"/>
                  <a:pt x="2084" y="10294"/>
                </a:cubicBezTo>
                <a:cubicBezTo>
                  <a:pt x="2302" y="10341"/>
                  <a:pt x="2528" y="10308"/>
                  <a:pt x="2753" y="10319"/>
                </a:cubicBezTo>
                <a:cubicBezTo>
                  <a:pt x="2985" y="10330"/>
                  <a:pt x="3219" y="10342"/>
                  <a:pt x="3448" y="103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84160" y="3732120"/>
            <a:ext cx="115920" cy="19692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2555" y="10368"/>
                </a:moveTo>
                <a:cubicBezTo>
                  <a:pt x="2692" y="10368"/>
                  <a:pt x="2728" y="10395"/>
                  <a:pt x="2679" y="10542"/>
                </a:cubicBezTo>
                <a:cubicBezTo>
                  <a:pt x="2671" y="10559"/>
                  <a:pt x="2662" y="10575"/>
                  <a:pt x="2654" y="10592"/>
                </a:cubicBezTo>
                <a:cubicBezTo>
                  <a:pt x="2753" y="10616"/>
                  <a:pt x="2836" y="10709"/>
                  <a:pt x="2729" y="10815"/>
                </a:cubicBezTo>
                <a:cubicBezTo>
                  <a:pt x="2603" y="10890"/>
                  <a:pt x="2559" y="10915"/>
                  <a:pt x="2456" y="109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4960" y="3759120"/>
            <a:ext cx="206280" cy="214560"/>
          </a:xfrm>
          <a:custGeom>
            <a:avLst/>
            <a:gdLst/>
            <a:ahLst/>
            <a:rect l="l" t="t" r="r" b="b"/>
            <a:pathLst>
              <a:path w="572" h="596">
                <a:moveTo>
                  <a:pt x="2059" y="10468"/>
                </a:moveTo>
                <a:cubicBezTo>
                  <a:pt x="1980" y="10460"/>
                  <a:pt x="1707" y="10408"/>
                  <a:pt x="1662" y="10517"/>
                </a:cubicBezTo>
                <a:cubicBezTo>
                  <a:pt x="1642" y="10618"/>
                  <a:pt x="1644" y="10638"/>
                  <a:pt x="1612" y="10691"/>
                </a:cubicBezTo>
                <a:cubicBezTo>
                  <a:pt x="1757" y="10713"/>
                  <a:pt x="1862" y="10705"/>
                  <a:pt x="2009" y="10765"/>
                </a:cubicBezTo>
                <a:cubicBezTo>
                  <a:pt x="1994" y="10976"/>
                  <a:pt x="1823" y="11073"/>
                  <a:pt x="1588" y="11038"/>
                </a:cubicBezTo>
                <a:cubicBezTo>
                  <a:pt x="1555" y="11021"/>
                  <a:pt x="1521" y="11005"/>
                  <a:pt x="1488" y="109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0640" y="3803760"/>
            <a:ext cx="98280" cy="117360"/>
          </a:xfrm>
          <a:custGeom>
            <a:avLst/>
            <a:gdLst/>
            <a:ahLst/>
            <a:rect l="l" t="t" r="r" b="b"/>
            <a:pathLst>
              <a:path w="273" h="323">
                <a:moveTo>
                  <a:pt x="3373" y="10567"/>
                </a:moveTo>
                <a:cubicBezTo>
                  <a:pt x="3299" y="10642"/>
                  <a:pt x="3251" y="10681"/>
                  <a:pt x="3225" y="10790"/>
                </a:cubicBezTo>
                <a:cubicBezTo>
                  <a:pt x="3191" y="10936"/>
                  <a:pt x="3394" y="10874"/>
                  <a:pt x="3448" y="10815"/>
                </a:cubicBezTo>
                <a:cubicBezTo>
                  <a:pt x="3565" y="10689"/>
                  <a:pt x="3486" y="10657"/>
                  <a:pt x="3398" y="105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54080" y="3911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927" y="10864"/>
                </a:moveTo>
                <a:lnTo>
                  <a:pt x="2927" y="10864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25360" y="3983040"/>
            <a:ext cx="88920" cy="115920"/>
          </a:xfrm>
          <a:custGeom>
            <a:avLst/>
            <a:gdLst/>
            <a:ahLst/>
            <a:rect l="l" t="t" r="r" b="b"/>
            <a:pathLst>
              <a:path w="249" h="323">
                <a:moveTo>
                  <a:pt x="3125" y="11187"/>
                </a:moveTo>
                <a:cubicBezTo>
                  <a:pt x="3149" y="11304"/>
                  <a:pt x="3152" y="11340"/>
                  <a:pt x="3225" y="11385"/>
                </a:cubicBezTo>
                <a:cubicBezTo>
                  <a:pt x="3387" y="11291"/>
                  <a:pt x="3396" y="11233"/>
                  <a:pt x="3324" y="1106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1160" y="3983040"/>
            <a:ext cx="9864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2530" y="11137"/>
                </a:moveTo>
                <a:cubicBezTo>
                  <a:pt x="2603" y="11108"/>
                  <a:pt x="2680" y="11033"/>
                  <a:pt x="2778" y="11063"/>
                </a:cubicBezTo>
                <a:cubicBezTo>
                  <a:pt x="2825" y="11077"/>
                  <a:pt x="2694" y="11218"/>
                  <a:pt x="2679" y="11237"/>
                </a:cubicBezTo>
                <a:cubicBezTo>
                  <a:pt x="2757" y="11237"/>
                  <a:pt x="2774" y="11222"/>
                  <a:pt x="2803" y="11261"/>
                </a:cubicBezTo>
                <a:cubicBezTo>
                  <a:pt x="2735" y="11398"/>
                  <a:pt x="2662" y="11482"/>
                  <a:pt x="2555" y="1136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84160" y="4143240"/>
            <a:ext cx="277920" cy="17640"/>
          </a:xfrm>
          <a:custGeom>
            <a:avLst/>
            <a:gdLst/>
            <a:ahLst/>
            <a:rect l="l" t="t" r="r" b="b"/>
            <a:pathLst>
              <a:path w="770" h="51">
                <a:moveTo>
                  <a:pt x="2456" y="11559"/>
                </a:moveTo>
                <a:cubicBezTo>
                  <a:pt x="2714" y="11552"/>
                  <a:pt x="2968" y="11532"/>
                  <a:pt x="3225" y="115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0240" y="4232160"/>
            <a:ext cx="625680" cy="760680"/>
          </a:xfrm>
          <a:custGeom>
            <a:avLst/>
            <a:gdLst/>
            <a:ahLst/>
            <a:rect l="l" t="t" r="r" b="b"/>
            <a:pathLst>
              <a:path w="1737" h="2110">
                <a:moveTo>
                  <a:pt x="3225" y="11807"/>
                </a:moveTo>
                <a:cubicBezTo>
                  <a:pt x="3129" y="11892"/>
                  <a:pt x="3122" y="11933"/>
                  <a:pt x="3101" y="12055"/>
                </a:cubicBezTo>
                <a:cubicBezTo>
                  <a:pt x="3244" y="12065"/>
                  <a:pt x="3445" y="12012"/>
                  <a:pt x="3423" y="11807"/>
                </a:cubicBezTo>
                <a:cubicBezTo>
                  <a:pt x="3406" y="11790"/>
                  <a:pt x="3390" y="11774"/>
                  <a:pt x="3373" y="11757"/>
                </a:cubicBezTo>
              </a:path>
              <a:path w="1737" h="2110">
                <a:moveTo>
                  <a:pt x="1860" y="13866"/>
                </a:moveTo>
                <a:cubicBezTo>
                  <a:pt x="1834" y="13636"/>
                  <a:pt x="1842" y="13425"/>
                  <a:pt x="1860" y="13196"/>
                </a:cubicBezTo>
                <a:cubicBezTo>
                  <a:pt x="1874" y="13012"/>
                  <a:pt x="2008" y="13057"/>
                  <a:pt x="2158" y="13072"/>
                </a:cubicBezTo>
                <a:cubicBezTo>
                  <a:pt x="2497" y="13105"/>
                  <a:pt x="2860" y="13141"/>
                  <a:pt x="3200" y="13122"/>
                </a:cubicBezTo>
                <a:cubicBezTo>
                  <a:pt x="3325" y="13115"/>
                  <a:pt x="3445" y="13097"/>
                  <a:pt x="3572" y="13097"/>
                </a:cubicBezTo>
              </a:path>
              <a:path w="1737" h="2110">
                <a:moveTo>
                  <a:pt x="2877" y="12998"/>
                </a:moveTo>
                <a:lnTo>
                  <a:pt x="2877" y="12998"/>
                </a:lnTo>
              </a:path>
              <a:path w="1737" h="2110">
                <a:moveTo>
                  <a:pt x="3473" y="12601"/>
                </a:moveTo>
                <a:cubicBezTo>
                  <a:pt x="3384" y="12609"/>
                  <a:pt x="3324" y="12625"/>
                  <a:pt x="3249" y="12675"/>
                </a:cubicBezTo>
                <a:cubicBezTo>
                  <a:pt x="3306" y="12766"/>
                  <a:pt x="3506" y="12907"/>
                  <a:pt x="3398" y="12998"/>
                </a:cubicBezTo>
                <a:cubicBezTo>
                  <a:pt x="3373" y="13006"/>
                  <a:pt x="3349" y="13014"/>
                  <a:pt x="3324" y="13022"/>
                </a:cubicBezTo>
                <a:cubicBezTo>
                  <a:pt x="3296" y="12885"/>
                  <a:pt x="3353" y="12830"/>
                  <a:pt x="3448" y="127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3680" y="4384800"/>
            <a:ext cx="312480" cy="206280"/>
          </a:xfrm>
          <a:custGeom>
            <a:avLst/>
            <a:gdLst/>
            <a:ahLst/>
            <a:rect l="l" t="t" r="r" b="b"/>
            <a:pathLst>
              <a:path w="869" h="572">
                <a:moveTo>
                  <a:pt x="7863" y="12601"/>
                </a:moveTo>
                <a:cubicBezTo>
                  <a:pt x="7827" y="12659"/>
                  <a:pt x="7804" y="12688"/>
                  <a:pt x="7789" y="12750"/>
                </a:cubicBezTo>
                <a:cubicBezTo>
                  <a:pt x="7852" y="12750"/>
                  <a:pt x="7879" y="12742"/>
                  <a:pt x="7913" y="12700"/>
                </a:cubicBezTo>
              </a:path>
              <a:path w="869" h="572">
                <a:moveTo>
                  <a:pt x="8285" y="12179"/>
                </a:moveTo>
                <a:cubicBezTo>
                  <a:pt x="8271" y="12330"/>
                  <a:pt x="8186" y="12476"/>
                  <a:pt x="8186" y="12626"/>
                </a:cubicBezTo>
                <a:cubicBezTo>
                  <a:pt x="8194" y="12642"/>
                  <a:pt x="8202" y="12659"/>
                  <a:pt x="8210" y="12675"/>
                </a:cubicBezTo>
                <a:cubicBezTo>
                  <a:pt x="8379" y="12705"/>
                  <a:pt x="8561" y="12736"/>
                  <a:pt x="8657" y="12551"/>
                </a:cubicBezTo>
                <a:cubicBezTo>
                  <a:pt x="8657" y="12526"/>
                  <a:pt x="8657" y="12502"/>
                  <a:pt x="8657" y="12477"/>
                </a:cubicBezTo>
                <a:cubicBezTo>
                  <a:pt x="8500" y="12445"/>
                  <a:pt x="8427" y="12516"/>
                  <a:pt x="8384" y="12675"/>
                </a:cubicBezTo>
                <a:cubicBezTo>
                  <a:pt x="8384" y="12692"/>
                  <a:pt x="8384" y="12708"/>
                  <a:pt x="8384" y="127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0000" y="4357800"/>
            <a:ext cx="276120" cy="196560"/>
          </a:xfrm>
          <a:custGeom>
            <a:avLst/>
            <a:gdLst/>
            <a:ahLst/>
            <a:rect l="l" t="t" r="r" b="b"/>
            <a:pathLst>
              <a:path w="770" h="546">
                <a:moveTo>
                  <a:pt x="9748" y="12626"/>
                </a:moveTo>
                <a:cubicBezTo>
                  <a:pt x="9899" y="12604"/>
                  <a:pt x="9929" y="12541"/>
                  <a:pt x="9773" y="12576"/>
                </a:cubicBezTo>
              </a:path>
              <a:path w="770" h="546">
                <a:moveTo>
                  <a:pt x="10344" y="12105"/>
                </a:moveTo>
                <a:cubicBezTo>
                  <a:pt x="10166" y="12308"/>
                  <a:pt x="10228" y="12317"/>
                  <a:pt x="10418" y="12502"/>
                </a:cubicBezTo>
                <a:cubicBezTo>
                  <a:pt x="10538" y="12619"/>
                  <a:pt x="10559" y="12599"/>
                  <a:pt x="10443" y="12650"/>
                </a:cubicBezTo>
                <a:cubicBezTo>
                  <a:pt x="10306" y="12546"/>
                  <a:pt x="10400" y="12419"/>
                  <a:pt x="10468" y="12254"/>
                </a:cubicBezTo>
                <a:cubicBezTo>
                  <a:pt x="10476" y="12237"/>
                  <a:pt x="10484" y="12221"/>
                  <a:pt x="10492" y="122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7240" y="4295880"/>
            <a:ext cx="554040" cy="285480"/>
          </a:xfrm>
          <a:custGeom>
            <a:avLst/>
            <a:gdLst/>
            <a:ahLst/>
            <a:rect l="l" t="t" r="r" b="b"/>
            <a:pathLst>
              <a:path w="1539" h="795">
                <a:moveTo>
                  <a:pt x="11658" y="12626"/>
                </a:moveTo>
                <a:cubicBezTo>
                  <a:pt x="11680" y="12702"/>
                  <a:pt x="11877" y="12716"/>
                  <a:pt x="11832" y="12650"/>
                </a:cubicBezTo>
                <a:cubicBezTo>
                  <a:pt x="11807" y="12642"/>
                  <a:pt x="11782" y="12634"/>
                  <a:pt x="11757" y="12626"/>
                </a:cubicBezTo>
              </a:path>
              <a:path w="1539" h="795">
                <a:moveTo>
                  <a:pt x="12179" y="12105"/>
                </a:moveTo>
                <a:cubicBezTo>
                  <a:pt x="12091" y="12139"/>
                  <a:pt x="11993" y="12122"/>
                  <a:pt x="11981" y="12229"/>
                </a:cubicBezTo>
                <a:cubicBezTo>
                  <a:pt x="11981" y="12323"/>
                  <a:pt x="12002" y="12344"/>
                  <a:pt x="11956" y="12378"/>
                </a:cubicBezTo>
                <a:cubicBezTo>
                  <a:pt x="12080" y="12423"/>
                  <a:pt x="12234" y="12363"/>
                  <a:pt x="12353" y="12427"/>
                </a:cubicBezTo>
                <a:cubicBezTo>
                  <a:pt x="12575" y="12546"/>
                  <a:pt x="12181" y="12667"/>
                  <a:pt x="12129" y="12675"/>
                </a:cubicBezTo>
              </a:path>
              <a:path w="1539" h="795">
                <a:moveTo>
                  <a:pt x="12576" y="12105"/>
                </a:moveTo>
                <a:cubicBezTo>
                  <a:pt x="12499" y="12140"/>
                  <a:pt x="12444" y="12171"/>
                  <a:pt x="12378" y="12229"/>
                </a:cubicBezTo>
                <a:cubicBezTo>
                  <a:pt x="12490" y="12314"/>
                  <a:pt x="12722" y="12425"/>
                  <a:pt x="12675" y="12601"/>
                </a:cubicBezTo>
                <a:cubicBezTo>
                  <a:pt x="12659" y="12617"/>
                  <a:pt x="12642" y="12634"/>
                  <a:pt x="12626" y="12650"/>
                </a:cubicBezTo>
                <a:cubicBezTo>
                  <a:pt x="12466" y="12562"/>
                  <a:pt x="12605" y="12409"/>
                  <a:pt x="12650" y="12229"/>
                </a:cubicBezTo>
                <a:cubicBezTo>
                  <a:pt x="12650" y="12212"/>
                  <a:pt x="12650" y="12196"/>
                  <a:pt x="12650" y="12179"/>
                </a:cubicBezTo>
              </a:path>
              <a:path w="1539" h="795">
                <a:moveTo>
                  <a:pt x="12874" y="12204"/>
                </a:moveTo>
                <a:cubicBezTo>
                  <a:pt x="13013" y="12223"/>
                  <a:pt x="13123" y="12240"/>
                  <a:pt x="13022" y="12402"/>
                </a:cubicBezTo>
                <a:cubicBezTo>
                  <a:pt x="13006" y="12419"/>
                  <a:pt x="12989" y="12435"/>
                  <a:pt x="12973" y="12452"/>
                </a:cubicBezTo>
                <a:cubicBezTo>
                  <a:pt x="13073" y="12463"/>
                  <a:pt x="13219" y="12510"/>
                  <a:pt x="13196" y="12650"/>
                </a:cubicBezTo>
                <a:cubicBezTo>
                  <a:pt x="13169" y="12819"/>
                  <a:pt x="12863" y="12650"/>
                  <a:pt x="12799" y="12626"/>
                </a:cubicBezTo>
              </a:path>
              <a:path w="1539" h="795">
                <a:moveTo>
                  <a:pt x="12898" y="12005"/>
                </a:moveTo>
                <a:cubicBezTo>
                  <a:pt x="13022" y="11964"/>
                  <a:pt x="13047" y="11956"/>
                  <a:pt x="13122" y="1193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26040" y="4276800"/>
            <a:ext cx="517680" cy="331560"/>
          </a:xfrm>
          <a:custGeom>
            <a:avLst/>
            <a:gdLst/>
            <a:ahLst/>
            <a:rect l="l" t="t" r="r" b="b"/>
            <a:pathLst>
              <a:path w="1440" h="919">
                <a:moveTo>
                  <a:pt x="14263" y="12725"/>
                </a:moveTo>
                <a:cubicBezTo>
                  <a:pt x="14235" y="12753"/>
                  <a:pt x="14226" y="12766"/>
                  <a:pt x="14238" y="12799"/>
                </a:cubicBezTo>
              </a:path>
              <a:path w="1440" h="919">
                <a:moveTo>
                  <a:pt x="14610" y="12129"/>
                </a:moveTo>
                <a:cubicBezTo>
                  <a:pt x="14420" y="12306"/>
                  <a:pt x="14450" y="12299"/>
                  <a:pt x="14610" y="12477"/>
                </a:cubicBezTo>
                <a:cubicBezTo>
                  <a:pt x="14643" y="12518"/>
                  <a:pt x="14676" y="12560"/>
                  <a:pt x="14709" y="12601"/>
                </a:cubicBezTo>
                <a:cubicBezTo>
                  <a:pt x="14656" y="12681"/>
                  <a:pt x="14633" y="12710"/>
                  <a:pt x="14560" y="12725"/>
                </a:cubicBezTo>
                <a:cubicBezTo>
                  <a:pt x="14497" y="12559"/>
                  <a:pt x="14550" y="12423"/>
                  <a:pt x="14635" y="12254"/>
                </a:cubicBezTo>
              </a:path>
              <a:path w="1440" h="919">
                <a:moveTo>
                  <a:pt x="14759" y="12204"/>
                </a:moveTo>
                <a:cubicBezTo>
                  <a:pt x="14860" y="12181"/>
                  <a:pt x="15055" y="12052"/>
                  <a:pt x="15106" y="12204"/>
                </a:cubicBezTo>
                <a:cubicBezTo>
                  <a:pt x="15153" y="12343"/>
                  <a:pt x="15056" y="12503"/>
                  <a:pt x="15007" y="12626"/>
                </a:cubicBezTo>
              </a:path>
              <a:path w="1440" h="919">
                <a:moveTo>
                  <a:pt x="15429" y="12055"/>
                </a:moveTo>
                <a:cubicBezTo>
                  <a:pt x="15348" y="12156"/>
                  <a:pt x="15335" y="12176"/>
                  <a:pt x="15280" y="12229"/>
                </a:cubicBezTo>
                <a:cubicBezTo>
                  <a:pt x="15361" y="12300"/>
                  <a:pt x="15592" y="12319"/>
                  <a:pt x="15553" y="12502"/>
                </a:cubicBezTo>
                <a:cubicBezTo>
                  <a:pt x="15481" y="12597"/>
                  <a:pt x="15460" y="12628"/>
                  <a:pt x="15379" y="12650"/>
                </a:cubicBezTo>
              </a:path>
              <a:path w="1440" h="919">
                <a:moveTo>
                  <a:pt x="15528" y="11956"/>
                </a:moveTo>
                <a:cubicBezTo>
                  <a:pt x="15611" y="11914"/>
                  <a:pt x="15627" y="11906"/>
                  <a:pt x="15677" y="118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120" y="4741920"/>
            <a:ext cx="776160" cy="714240"/>
          </a:xfrm>
          <a:custGeom>
            <a:avLst/>
            <a:gdLst/>
            <a:ahLst/>
            <a:rect l="l" t="t" r="r" b="b"/>
            <a:pathLst>
              <a:path w="2159" h="1986">
                <a:moveTo>
                  <a:pt x="2158" y="13246"/>
                </a:moveTo>
                <a:cubicBezTo>
                  <a:pt x="2123" y="13340"/>
                  <a:pt x="2020" y="13556"/>
                  <a:pt x="2208" y="13543"/>
                </a:cubicBezTo>
                <a:cubicBezTo>
                  <a:pt x="2346" y="13497"/>
                  <a:pt x="2387" y="13487"/>
                  <a:pt x="2456" y="13419"/>
                </a:cubicBezTo>
              </a:path>
              <a:path w="2159" h="1986">
                <a:moveTo>
                  <a:pt x="2431" y="13320"/>
                </a:moveTo>
                <a:cubicBezTo>
                  <a:pt x="2394" y="13499"/>
                  <a:pt x="2361" y="13669"/>
                  <a:pt x="2307" y="13841"/>
                </a:cubicBezTo>
              </a:path>
              <a:path w="2159" h="1986">
                <a:moveTo>
                  <a:pt x="1563" y="13196"/>
                </a:moveTo>
                <a:cubicBezTo>
                  <a:pt x="1363" y="13150"/>
                  <a:pt x="1351" y="13128"/>
                  <a:pt x="1290" y="13345"/>
                </a:cubicBezTo>
                <a:cubicBezTo>
                  <a:pt x="1270" y="13444"/>
                  <a:pt x="1262" y="13460"/>
                  <a:pt x="1265" y="13519"/>
                </a:cubicBezTo>
                <a:cubicBezTo>
                  <a:pt x="1338" y="13401"/>
                  <a:pt x="1449" y="13378"/>
                  <a:pt x="1538" y="13519"/>
                </a:cubicBezTo>
                <a:cubicBezTo>
                  <a:pt x="1546" y="13552"/>
                  <a:pt x="1555" y="13585"/>
                  <a:pt x="1563" y="13618"/>
                </a:cubicBezTo>
                <a:cubicBezTo>
                  <a:pt x="1420" y="13775"/>
                  <a:pt x="1340" y="13749"/>
                  <a:pt x="1141" y="13692"/>
                </a:cubicBezTo>
              </a:path>
              <a:path w="2159" h="1986">
                <a:moveTo>
                  <a:pt x="2679" y="13841"/>
                </a:moveTo>
                <a:lnTo>
                  <a:pt x="2679" y="13841"/>
                </a:lnTo>
              </a:path>
              <a:path w="2159" h="1986">
                <a:moveTo>
                  <a:pt x="3150" y="13370"/>
                </a:moveTo>
                <a:cubicBezTo>
                  <a:pt x="3016" y="13559"/>
                  <a:pt x="2962" y="13637"/>
                  <a:pt x="3001" y="13866"/>
                </a:cubicBezTo>
                <a:cubicBezTo>
                  <a:pt x="3183" y="13816"/>
                  <a:pt x="3328" y="13658"/>
                  <a:pt x="3299" y="13444"/>
                </a:cubicBezTo>
                <a:cubicBezTo>
                  <a:pt x="3274" y="13394"/>
                  <a:pt x="3250" y="13345"/>
                  <a:pt x="3225" y="13295"/>
                </a:cubicBezTo>
              </a:path>
              <a:path w="2159" h="1986">
                <a:moveTo>
                  <a:pt x="2307" y="13965"/>
                </a:moveTo>
                <a:cubicBezTo>
                  <a:pt x="2260" y="14058"/>
                  <a:pt x="2227" y="14182"/>
                  <a:pt x="2208" y="14288"/>
                </a:cubicBezTo>
                <a:cubicBezTo>
                  <a:pt x="2357" y="14288"/>
                  <a:pt x="2420" y="14275"/>
                  <a:pt x="2505" y="14188"/>
                </a:cubicBezTo>
              </a:path>
              <a:path w="2159" h="1986">
                <a:moveTo>
                  <a:pt x="2604" y="13915"/>
                </a:moveTo>
                <a:cubicBezTo>
                  <a:pt x="2529" y="14115"/>
                  <a:pt x="2479" y="14303"/>
                  <a:pt x="2431" y="14511"/>
                </a:cubicBezTo>
              </a:path>
              <a:path w="2159" h="1986">
                <a:moveTo>
                  <a:pt x="2927" y="14163"/>
                </a:moveTo>
                <a:cubicBezTo>
                  <a:pt x="2863" y="14292"/>
                  <a:pt x="2838" y="14320"/>
                  <a:pt x="2853" y="14412"/>
                </a:cubicBezTo>
                <a:cubicBezTo>
                  <a:pt x="3068" y="14411"/>
                  <a:pt x="3076" y="14285"/>
                  <a:pt x="3076" y="14089"/>
                </a:cubicBezTo>
              </a:path>
              <a:path w="2159" h="1986">
                <a:moveTo>
                  <a:pt x="2059" y="14585"/>
                </a:moveTo>
                <a:cubicBezTo>
                  <a:pt x="2398" y="14553"/>
                  <a:pt x="2736" y="14521"/>
                  <a:pt x="3076" y="14511"/>
                </a:cubicBezTo>
              </a:path>
              <a:path w="2159" h="1986">
                <a:moveTo>
                  <a:pt x="2902" y="14734"/>
                </a:moveTo>
                <a:cubicBezTo>
                  <a:pt x="2753" y="14859"/>
                  <a:pt x="2723" y="14939"/>
                  <a:pt x="2704" y="15131"/>
                </a:cubicBezTo>
                <a:cubicBezTo>
                  <a:pt x="2857" y="15131"/>
                  <a:pt x="3139" y="15016"/>
                  <a:pt x="3076" y="14784"/>
                </a:cubicBezTo>
                <a:cubicBezTo>
                  <a:pt x="3043" y="14751"/>
                  <a:pt x="3010" y="14717"/>
                  <a:pt x="2977" y="1468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7120" y="4875120"/>
            <a:ext cx="1258920" cy="974880"/>
          </a:xfrm>
          <a:custGeom>
            <a:avLst/>
            <a:gdLst/>
            <a:ahLst/>
            <a:rect l="l" t="t" r="r" b="b"/>
            <a:pathLst>
              <a:path w="3498" h="2705">
                <a:moveTo>
                  <a:pt x="5135" y="13965"/>
                </a:moveTo>
                <a:cubicBezTo>
                  <a:pt x="5086" y="14063"/>
                  <a:pt x="5071" y="14085"/>
                  <a:pt x="5184" y="14114"/>
                </a:cubicBezTo>
              </a:path>
              <a:path w="3498" h="2705">
                <a:moveTo>
                  <a:pt x="5755" y="13543"/>
                </a:moveTo>
                <a:cubicBezTo>
                  <a:pt x="5709" y="13713"/>
                  <a:pt x="5645" y="13914"/>
                  <a:pt x="5705" y="14089"/>
                </a:cubicBezTo>
                <a:cubicBezTo>
                  <a:pt x="5768" y="14273"/>
                  <a:pt x="5922" y="14052"/>
                  <a:pt x="5953" y="13990"/>
                </a:cubicBezTo>
                <a:cubicBezTo>
                  <a:pt x="5869" y="14018"/>
                  <a:pt x="5839" y="14037"/>
                  <a:pt x="5829" y="14114"/>
                </a:cubicBezTo>
              </a:path>
              <a:path w="3498" h="2705">
                <a:moveTo>
                  <a:pt x="5259" y="14560"/>
                </a:moveTo>
                <a:lnTo>
                  <a:pt x="5259" y="14560"/>
                </a:lnTo>
              </a:path>
              <a:path w="3498" h="2705">
                <a:moveTo>
                  <a:pt x="5904" y="14337"/>
                </a:moveTo>
                <a:cubicBezTo>
                  <a:pt x="5825" y="14345"/>
                  <a:pt x="5596" y="14397"/>
                  <a:pt x="5680" y="14536"/>
                </a:cubicBezTo>
                <a:cubicBezTo>
                  <a:pt x="5748" y="14648"/>
                  <a:pt x="5920" y="14660"/>
                  <a:pt x="5904" y="14784"/>
                </a:cubicBezTo>
                <a:cubicBezTo>
                  <a:pt x="5736" y="14692"/>
                  <a:pt x="5803" y="14679"/>
                  <a:pt x="5854" y="14536"/>
                </a:cubicBezTo>
                <a:cubicBezTo>
                  <a:pt x="5854" y="14519"/>
                  <a:pt x="5854" y="14503"/>
                  <a:pt x="5854" y="14486"/>
                </a:cubicBezTo>
              </a:path>
              <a:path w="3498" h="2705">
                <a:moveTo>
                  <a:pt x="5209" y="15404"/>
                </a:moveTo>
                <a:cubicBezTo>
                  <a:pt x="5209" y="15448"/>
                  <a:pt x="5206" y="15462"/>
                  <a:pt x="5234" y="15478"/>
                </a:cubicBezTo>
              </a:path>
              <a:path w="3498" h="2705">
                <a:moveTo>
                  <a:pt x="6003" y="15156"/>
                </a:moveTo>
                <a:cubicBezTo>
                  <a:pt x="5871" y="15084"/>
                  <a:pt x="5861" y="15045"/>
                  <a:pt x="5779" y="15205"/>
                </a:cubicBezTo>
                <a:cubicBezTo>
                  <a:pt x="5771" y="15230"/>
                  <a:pt x="5763" y="15255"/>
                  <a:pt x="5755" y="15280"/>
                </a:cubicBezTo>
                <a:cubicBezTo>
                  <a:pt x="5866" y="15357"/>
                  <a:pt x="5955" y="15363"/>
                  <a:pt x="6028" y="15478"/>
                </a:cubicBezTo>
                <a:cubicBezTo>
                  <a:pt x="5880" y="15552"/>
                  <a:pt x="5864" y="15575"/>
                  <a:pt x="5755" y="15453"/>
                </a:cubicBezTo>
              </a:path>
              <a:path w="3498" h="2705">
                <a:moveTo>
                  <a:pt x="6573" y="15081"/>
                </a:moveTo>
                <a:cubicBezTo>
                  <a:pt x="6516" y="15108"/>
                  <a:pt x="6279" y="15205"/>
                  <a:pt x="6350" y="15280"/>
                </a:cubicBezTo>
                <a:cubicBezTo>
                  <a:pt x="6417" y="15350"/>
                  <a:pt x="6481" y="15369"/>
                  <a:pt x="6524" y="15453"/>
                </a:cubicBezTo>
                <a:cubicBezTo>
                  <a:pt x="6499" y="15470"/>
                  <a:pt x="6474" y="15486"/>
                  <a:pt x="6449" y="15503"/>
                </a:cubicBezTo>
                <a:cubicBezTo>
                  <a:pt x="6375" y="15354"/>
                  <a:pt x="6467" y="15263"/>
                  <a:pt x="6573" y="15131"/>
                </a:cubicBezTo>
              </a:path>
              <a:path w="3498" h="2705">
                <a:moveTo>
                  <a:pt x="6945" y="15106"/>
                </a:moveTo>
                <a:cubicBezTo>
                  <a:pt x="7044" y="15115"/>
                  <a:pt x="7138" y="15127"/>
                  <a:pt x="7020" y="15255"/>
                </a:cubicBezTo>
                <a:cubicBezTo>
                  <a:pt x="6995" y="15271"/>
                  <a:pt x="6970" y="15288"/>
                  <a:pt x="6945" y="15304"/>
                </a:cubicBezTo>
                <a:cubicBezTo>
                  <a:pt x="7073" y="15305"/>
                  <a:pt x="7193" y="15420"/>
                  <a:pt x="7020" y="15528"/>
                </a:cubicBezTo>
                <a:cubicBezTo>
                  <a:pt x="6921" y="15553"/>
                  <a:pt x="6887" y="15561"/>
                  <a:pt x="6821" y="15528"/>
                </a:cubicBezTo>
              </a:path>
              <a:path w="3498" h="2705">
                <a:moveTo>
                  <a:pt x="6970" y="14833"/>
                </a:moveTo>
                <a:cubicBezTo>
                  <a:pt x="6995" y="14833"/>
                  <a:pt x="7020" y="14833"/>
                  <a:pt x="7045" y="14833"/>
                </a:cubicBezTo>
              </a:path>
              <a:path w="3498" h="2705">
                <a:moveTo>
                  <a:pt x="5085" y="16148"/>
                </a:moveTo>
                <a:lnTo>
                  <a:pt x="5085" y="16148"/>
                </a:lnTo>
              </a:path>
              <a:path w="3498" h="2705">
                <a:moveTo>
                  <a:pt x="6003" y="15999"/>
                </a:moveTo>
                <a:cubicBezTo>
                  <a:pt x="5864" y="15992"/>
                  <a:pt x="5854" y="15986"/>
                  <a:pt x="5730" y="16049"/>
                </a:cubicBezTo>
                <a:cubicBezTo>
                  <a:pt x="5820" y="16079"/>
                  <a:pt x="5902" y="16137"/>
                  <a:pt x="5978" y="16197"/>
                </a:cubicBezTo>
                <a:cubicBezTo>
                  <a:pt x="5880" y="16233"/>
                  <a:pt x="5768" y="16271"/>
                  <a:pt x="5854" y="16098"/>
                </a:cubicBezTo>
                <a:cubicBezTo>
                  <a:pt x="5906" y="15994"/>
                  <a:pt x="5935" y="15986"/>
                  <a:pt x="6028" y="15974"/>
                </a:cubicBezTo>
              </a:path>
              <a:path w="3498" h="2705">
                <a:moveTo>
                  <a:pt x="6300" y="15999"/>
                </a:moveTo>
                <a:cubicBezTo>
                  <a:pt x="6414" y="15986"/>
                  <a:pt x="6506" y="15992"/>
                  <a:pt x="6623" y="15999"/>
                </a:cubicBezTo>
                <a:cubicBezTo>
                  <a:pt x="6667" y="16101"/>
                  <a:pt x="6638" y="16116"/>
                  <a:pt x="6598" y="16222"/>
                </a:cubicBezTo>
              </a:path>
              <a:path w="3498" h="2705">
                <a:moveTo>
                  <a:pt x="7144" y="15825"/>
                </a:moveTo>
                <a:cubicBezTo>
                  <a:pt x="7001" y="15859"/>
                  <a:pt x="6953" y="15853"/>
                  <a:pt x="6921" y="15999"/>
                </a:cubicBezTo>
                <a:cubicBezTo>
                  <a:pt x="7017" y="16029"/>
                  <a:pt x="7226" y="16051"/>
                  <a:pt x="7293" y="16123"/>
                </a:cubicBezTo>
                <a:cubicBezTo>
                  <a:pt x="7396" y="16234"/>
                  <a:pt x="7063" y="16201"/>
                  <a:pt x="6921" y="16148"/>
                </a:cubicBezTo>
              </a:path>
              <a:path w="3498" h="2705">
                <a:moveTo>
                  <a:pt x="6400" y="14288"/>
                </a:moveTo>
                <a:cubicBezTo>
                  <a:pt x="6279" y="14407"/>
                  <a:pt x="6265" y="14510"/>
                  <a:pt x="6251" y="14684"/>
                </a:cubicBezTo>
                <a:cubicBezTo>
                  <a:pt x="6320" y="14673"/>
                  <a:pt x="6684" y="14607"/>
                  <a:pt x="6548" y="14461"/>
                </a:cubicBezTo>
                <a:cubicBezTo>
                  <a:pt x="6507" y="14436"/>
                  <a:pt x="6465" y="14412"/>
                  <a:pt x="6424" y="14387"/>
                </a:cubicBezTo>
              </a:path>
              <a:path w="3498" h="2705">
                <a:moveTo>
                  <a:pt x="6970" y="14337"/>
                </a:moveTo>
                <a:cubicBezTo>
                  <a:pt x="6882" y="14415"/>
                  <a:pt x="6696" y="14612"/>
                  <a:pt x="6921" y="14709"/>
                </a:cubicBezTo>
                <a:cubicBezTo>
                  <a:pt x="6954" y="14709"/>
                  <a:pt x="6987" y="14709"/>
                  <a:pt x="7020" y="14709"/>
                </a:cubicBezTo>
                <a:cubicBezTo>
                  <a:pt x="7144" y="14548"/>
                  <a:pt x="7127" y="14517"/>
                  <a:pt x="6970" y="14387"/>
                </a:cubicBezTo>
              </a:path>
              <a:path w="3498" h="2705">
                <a:moveTo>
                  <a:pt x="6176" y="13643"/>
                </a:moveTo>
                <a:cubicBezTo>
                  <a:pt x="6117" y="13791"/>
                  <a:pt x="6085" y="14036"/>
                  <a:pt x="6350" y="13965"/>
                </a:cubicBezTo>
                <a:cubicBezTo>
                  <a:pt x="6597" y="13899"/>
                  <a:pt x="6454" y="13732"/>
                  <a:pt x="6350" y="13643"/>
                </a:cubicBezTo>
              </a:path>
              <a:path w="3498" h="2705">
                <a:moveTo>
                  <a:pt x="6871" y="13618"/>
                </a:moveTo>
                <a:cubicBezTo>
                  <a:pt x="6854" y="13708"/>
                  <a:pt x="6768" y="14158"/>
                  <a:pt x="7020" y="13965"/>
                </a:cubicBezTo>
                <a:cubicBezTo>
                  <a:pt x="7094" y="13866"/>
                  <a:pt x="7119" y="13833"/>
                  <a:pt x="7094" y="13742"/>
                </a:cubicBezTo>
              </a:path>
              <a:path w="3498" h="2705">
                <a:moveTo>
                  <a:pt x="4490" y="14511"/>
                </a:moveTo>
                <a:cubicBezTo>
                  <a:pt x="4632" y="14535"/>
                  <a:pt x="4766" y="14536"/>
                  <a:pt x="4911" y="14536"/>
                </a:cubicBezTo>
              </a:path>
              <a:path w="3498" h="2705">
                <a:moveTo>
                  <a:pt x="4242" y="16024"/>
                </a:moveTo>
                <a:cubicBezTo>
                  <a:pt x="4427" y="15944"/>
                  <a:pt x="4568" y="15989"/>
                  <a:pt x="4762" y="16049"/>
                </a:cubicBezTo>
              </a:path>
              <a:path w="3498" h="2705">
                <a:moveTo>
                  <a:pt x="4614" y="14436"/>
                </a:moveTo>
                <a:cubicBezTo>
                  <a:pt x="4829" y="14311"/>
                  <a:pt x="4967" y="14444"/>
                  <a:pt x="5209" y="14486"/>
                </a:cubicBezTo>
                <a:cubicBezTo>
                  <a:pt x="5745" y="14580"/>
                  <a:pt x="6304" y="14571"/>
                  <a:pt x="6846" y="14585"/>
                </a:cubicBezTo>
                <a:cubicBezTo>
                  <a:pt x="7002" y="14589"/>
                  <a:pt x="7160" y="14585"/>
                  <a:pt x="7317" y="14585"/>
                </a:cubicBezTo>
              </a:path>
              <a:path w="3498" h="2705">
                <a:moveTo>
                  <a:pt x="4440" y="16024"/>
                </a:moveTo>
                <a:cubicBezTo>
                  <a:pt x="4887" y="16024"/>
                  <a:pt x="5333" y="16039"/>
                  <a:pt x="5779" y="16049"/>
                </a:cubicBezTo>
                <a:cubicBezTo>
                  <a:pt x="6176" y="16058"/>
                  <a:pt x="6575" y="16095"/>
                  <a:pt x="6970" y="16049"/>
                </a:cubicBezTo>
                <a:cubicBezTo>
                  <a:pt x="7115" y="16032"/>
                  <a:pt x="7245" y="15999"/>
                  <a:pt x="7392" y="15999"/>
                </a:cubicBezTo>
                <a:cubicBezTo>
                  <a:pt x="7450" y="15999"/>
                  <a:pt x="7507" y="15999"/>
                  <a:pt x="7565" y="15999"/>
                </a:cubicBezTo>
              </a:path>
              <a:path w="3498" h="2705">
                <a:moveTo>
                  <a:pt x="4837" y="13816"/>
                </a:moveTo>
                <a:cubicBezTo>
                  <a:pt x="5335" y="13897"/>
                  <a:pt x="5821" y="13966"/>
                  <a:pt x="6325" y="14015"/>
                </a:cubicBezTo>
                <a:cubicBezTo>
                  <a:pt x="6796" y="14061"/>
                  <a:pt x="7272" y="14064"/>
                  <a:pt x="7739" y="141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5080" y="5018040"/>
            <a:ext cx="2930760" cy="465120"/>
          </a:xfrm>
          <a:custGeom>
            <a:avLst/>
            <a:gdLst/>
            <a:ahLst/>
            <a:rect l="l" t="t" r="r" b="b"/>
            <a:pathLst>
              <a:path w="8137" h="1291">
                <a:moveTo>
                  <a:pt x="8905" y="14635"/>
                </a:moveTo>
                <a:cubicBezTo>
                  <a:pt x="8926" y="14717"/>
                  <a:pt x="8930" y="14795"/>
                  <a:pt x="8930" y="14883"/>
                </a:cubicBezTo>
              </a:path>
              <a:path w="8137" h="1291">
                <a:moveTo>
                  <a:pt x="9723" y="14238"/>
                </a:moveTo>
                <a:cubicBezTo>
                  <a:pt x="9560" y="14279"/>
                  <a:pt x="9481" y="14308"/>
                  <a:pt x="9351" y="14412"/>
                </a:cubicBezTo>
                <a:cubicBezTo>
                  <a:pt x="9409" y="14511"/>
                  <a:pt x="9658" y="14733"/>
                  <a:pt x="9624" y="14833"/>
                </a:cubicBezTo>
                <a:cubicBezTo>
                  <a:pt x="9546" y="14912"/>
                  <a:pt x="9515" y="14937"/>
                  <a:pt x="9426" y="14908"/>
                </a:cubicBezTo>
                <a:cubicBezTo>
                  <a:pt x="9441" y="14671"/>
                  <a:pt x="9671" y="14627"/>
                  <a:pt x="9748" y="14412"/>
                </a:cubicBezTo>
                <a:cubicBezTo>
                  <a:pt x="9723" y="14337"/>
                  <a:pt x="9715" y="14312"/>
                  <a:pt x="9649" y="14312"/>
                </a:cubicBezTo>
              </a:path>
              <a:path w="8137" h="1291">
                <a:moveTo>
                  <a:pt x="9872" y="14312"/>
                </a:moveTo>
                <a:cubicBezTo>
                  <a:pt x="9956" y="14247"/>
                  <a:pt x="10051" y="14236"/>
                  <a:pt x="10170" y="14213"/>
                </a:cubicBezTo>
                <a:cubicBezTo>
                  <a:pt x="10181" y="14436"/>
                  <a:pt x="10119" y="14641"/>
                  <a:pt x="10046" y="14858"/>
                </a:cubicBezTo>
              </a:path>
              <a:path w="8137" h="1291">
                <a:moveTo>
                  <a:pt x="10691" y="14114"/>
                </a:moveTo>
                <a:cubicBezTo>
                  <a:pt x="10540" y="14143"/>
                  <a:pt x="10485" y="14091"/>
                  <a:pt x="10443" y="14238"/>
                </a:cubicBezTo>
                <a:cubicBezTo>
                  <a:pt x="10422" y="14322"/>
                  <a:pt x="10420" y="14341"/>
                  <a:pt x="10393" y="14387"/>
                </a:cubicBezTo>
                <a:cubicBezTo>
                  <a:pt x="10536" y="14358"/>
                  <a:pt x="10838" y="14260"/>
                  <a:pt x="10815" y="14536"/>
                </a:cubicBezTo>
                <a:cubicBezTo>
                  <a:pt x="10799" y="14731"/>
                  <a:pt x="10569" y="14918"/>
                  <a:pt x="10393" y="14784"/>
                </a:cubicBezTo>
                <a:cubicBezTo>
                  <a:pt x="10368" y="14751"/>
                  <a:pt x="10344" y="14717"/>
                  <a:pt x="10319" y="14684"/>
                </a:cubicBezTo>
              </a:path>
              <a:path w="8137" h="1291">
                <a:moveTo>
                  <a:pt x="10914" y="14908"/>
                </a:moveTo>
                <a:cubicBezTo>
                  <a:pt x="10938" y="15075"/>
                  <a:pt x="10948" y="15127"/>
                  <a:pt x="10889" y="15230"/>
                </a:cubicBezTo>
              </a:path>
              <a:path w="8137" h="1291">
                <a:moveTo>
                  <a:pt x="11460" y="14883"/>
                </a:moveTo>
                <a:cubicBezTo>
                  <a:pt x="11482" y="14948"/>
                  <a:pt x="11490" y="14963"/>
                  <a:pt x="11485" y="15007"/>
                </a:cubicBezTo>
              </a:path>
              <a:path w="8137" h="1291">
                <a:moveTo>
                  <a:pt x="12080" y="14312"/>
                </a:moveTo>
                <a:cubicBezTo>
                  <a:pt x="11907" y="14297"/>
                  <a:pt x="11852" y="14303"/>
                  <a:pt x="11708" y="14412"/>
                </a:cubicBezTo>
                <a:cubicBezTo>
                  <a:pt x="11865" y="14578"/>
                  <a:pt x="12043" y="14673"/>
                  <a:pt x="12105" y="14883"/>
                </a:cubicBezTo>
                <a:cubicBezTo>
                  <a:pt x="11773" y="14924"/>
                  <a:pt x="11741" y="14832"/>
                  <a:pt x="11956" y="14560"/>
                </a:cubicBezTo>
                <a:cubicBezTo>
                  <a:pt x="12063" y="14436"/>
                  <a:pt x="12068" y="14425"/>
                  <a:pt x="12129" y="14362"/>
                </a:cubicBezTo>
              </a:path>
              <a:path w="8137" h="1291">
                <a:moveTo>
                  <a:pt x="12502" y="14288"/>
                </a:moveTo>
                <a:cubicBezTo>
                  <a:pt x="12354" y="14477"/>
                  <a:pt x="12328" y="14521"/>
                  <a:pt x="12328" y="14759"/>
                </a:cubicBezTo>
                <a:cubicBezTo>
                  <a:pt x="12504" y="14808"/>
                  <a:pt x="12732" y="14809"/>
                  <a:pt x="12675" y="14536"/>
                </a:cubicBezTo>
                <a:cubicBezTo>
                  <a:pt x="12611" y="14406"/>
                  <a:pt x="12607" y="14362"/>
                  <a:pt x="12502" y="14362"/>
                </a:cubicBezTo>
              </a:path>
              <a:path w="8137" h="1291">
                <a:moveTo>
                  <a:pt x="13047" y="14957"/>
                </a:moveTo>
                <a:cubicBezTo>
                  <a:pt x="13074" y="15064"/>
                  <a:pt x="13081" y="15105"/>
                  <a:pt x="13047" y="15180"/>
                </a:cubicBezTo>
              </a:path>
              <a:path w="8137" h="1291">
                <a:moveTo>
                  <a:pt x="13568" y="14660"/>
                </a:moveTo>
                <a:cubicBezTo>
                  <a:pt x="13568" y="14701"/>
                  <a:pt x="13568" y="14709"/>
                  <a:pt x="13568" y="14734"/>
                </a:cubicBezTo>
              </a:path>
              <a:path w="8137" h="1291">
                <a:moveTo>
                  <a:pt x="14015" y="13965"/>
                </a:moveTo>
                <a:cubicBezTo>
                  <a:pt x="13959" y="14113"/>
                  <a:pt x="13793" y="14337"/>
                  <a:pt x="13841" y="14511"/>
                </a:cubicBezTo>
                <a:cubicBezTo>
                  <a:pt x="13914" y="14774"/>
                  <a:pt x="14267" y="14527"/>
                  <a:pt x="14312" y="14387"/>
                </a:cubicBezTo>
                <a:cubicBezTo>
                  <a:pt x="14304" y="14354"/>
                  <a:pt x="14296" y="14321"/>
                  <a:pt x="14288" y="14288"/>
                </a:cubicBezTo>
                <a:cubicBezTo>
                  <a:pt x="14123" y="14287"/>
                  <a:pt x="14146" y="14412"/>
                  <a:pt x="14163" y="14560"/>
                </a:cubicBezTo>
              </a:path>
              <a:path w="8137" h="1291">
                <a:moveTo>
                  <a:pt x="14709" y="14908"/>
                </a:moveTo>
                <a:cubicBezTo>
                  <a:pt x="14688" y="15053"/>
                  <a:pt x="14695" y="15087"/>
                  <a:pt x="14635" y="15156"/>
                </a:cubicBezTo>
              </a:path>
              <a:path w="8137" h="1291">
                <a:moveTo>
                  <a:pt x="15180" y="14486"/>
                </a:moveTo>
                <a:lnTo>
                  <a:pt x="15180" y="14486"/>
                </a:lnTo>
              </a:path>
              <a:path w="8137" h="1291">
                <a:moveTo>
                  <a:pt x="15503" y="14114"/>
                </a:moveTo>
                <a:cubicBezTo>
                  <a:pt x="15503" y="14165"/>
                  <a:pt x="15502" y="14184"/>
                  <a:pt x="15478" y="14213"/>
                </a:cubicBezTo>
                <a:cubicBezTo>
                  <a:pt x="15577" y="14256"/>
                  <a:pt x="15767" y="14203"/>
                  <a:pt x="15825" y="14337"/>
                </a:cubicBezTo>
                <a:cubicBezTo>
                  <a:pt x="15907" y="14529"/>
                  <a:pt x="15708" y="14538"/>
                  <a:pt x="15602" y="14560"/>
                </a:cubicBezTo>
              </a:path>
              <a:path w="8137" h="1291">
                <a:moveTo>
                  <a:pt x="15677" y="14015"/>
                </a:moveTo>
                <a:cubicBezTo>
                  <a:pt x="15743" y="14015"/>
                  <a:pt x="15809" y="14015"/>
                  <a:pt x="15875" y="14015"/>
                </a:cubicBezTo>
              </a:path>
              <a:path w="8137" h="1291">
                <a:moveTo>
                  <a:pt x="16470" y="13990"/>
                </a:moveTo>
                <a:cubicBezTo>
                  <a:pt x="16191" y="14063"/>
                  <a:pt x="16107" y="14103"/>
                  <a:pt x="16297" y="14362"/>
                </a:cubicBezTo>
                <a:cubicBezTo>
                  <a:pt x="16401" y="14487"/>
                  <a:pt x="16435" y="14508"/>
                  <a:pt x="16446" y="14610"/>
                </a:cubicBezTo>
                <a:cubicBezTo>
                  <a:pt x="16404" y="14618"/>
                  <a:pt x="16363" y="14627"/>
                  <a:pt x="16321" y="14635"/>
                </a:cubicBezTo>
                <a:cubicBezTo>
                  <a:pt x="16118" y="14465"/>
                  <a:pt x="16283" y="14271"/>
                  <a:pt x="16446" y="14064"/>
                </a:cubicBezTo>
                <a:cubicBezTo>
                  <a:pt x="16462" y="14048"/>
                  <a:pt x="16479" y="14031"/>
                  <a:pt x="16495" y="14015"/>
                </a:cubicBezTo>
              </a:path>
              <a:path w="8137" h="1291">
                <a:moveTo>
                  <a:pt x="16718" y="13940"/>
                </a:moveTo>
                <a:cubicBezTo>
                  <a:pt x="16835" y="13954"/>
                  <a:pt x="17143" y="13987"/>
                  <a:pt x="17016" y="14188"/>
                </a:cubicBezTo>
                <a:cubicBezTo>
                  <a:pt x="16952" y="14289"/>
                  <a:pt x="16774" y="14362"/>
                  <a:pt x="16867" y="14288"/>
                </a:cubicBezTo>
                <a:cubicBezTo>
                  <a:pt x="17118" y="14449"/>
                  <a:pt x="17050" y="14518"/>
                  <a:pt x="16818" y="14660"/>
                </a:cubicBezTo>
              </a:path>
              <a:path w="8137" h="1291">
                <a:moveTo>
                  <a:pt x="15205" y="14560"/>
                </a:moveTo>
                <a:cubicBezTo>
                  <a:pt x="15149" y="14589"/>
                  <a:pt x="15130" y="14605"/>
                  <a:pt x="15131" y="14660"/>
                </a:cubicBezTo>
                <a:cubicBezTo>
                  <a:pt x="15253" y="14639"/>
                  <a:pt x="15247" y="14672"/>
                  <a:pt x="15205" y="145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8880" y="5402160"/>
            <a:ext cx="2911320" cy="1170000"/>
          </a:xfrm>
          <a:custGeom>
            <a:avLst/>
            <a:gdLst/>
            <a:ahLst/>
            <a:rect l="l" t="t" r="r" b="b"/>
            <a:pathLst>
              <a:path w="8088" h="3250">
                <a:moveTo>
                  <a:pt x="9748" y="15999"/>
                </a:moveTo>
                <a:cubicBezTo>
                  <a:pt x="9857" y="15977"/>
                  <a:pt x="9961" y="15957"/>
                  <a:pt x="10071" y="15949"/>
                </a:cubicBezTo>
                <a:cubicBezTo>
                  <a:pt x="10050" y="16116"/>
                  <a:pt x="9983" y="16264"/>
                  <a:pt x="9922" y="16421"/>
                </a:cubicBezTo>
              </a:path>
              <a:path w="8088" h="3250">
                <a:moveTo>
                  <a:pt x="9401" y="16669"/>
                </a:moveTo>
                <a:cubicBezTo>
                  <a:pt x="9693" y="16663"/>
                  <a:pt x="9978" y="16655"/>
                  <a:pt x="10269" y="16669"/>
                </a:cubicBezTo>
              </a:path>
              <a:path w="8088" h="3250">
                <a:moveTo>
                  <a:pt x="9748" y="16917"/>
                </a:moveTo>
                <a:cubicBezTo>
                  <a:pt x="9615" y="17200"/>
                  <a:pt x="9719" y="17135"/>
                  <a:pt x="9947" y="17289"/>
                </a:cubicBezTo>
                <a:cubicBezTo>
                  <a:pt x="9972" y="17314"/>
                  <a:pt x="9996" y="17338"/>
                  <a:pt x="10021" y="17363"/>
                </a:cubicBezTo>
                <a:cubicBezTo>
                  <a:pt x="9938" y="17446"/>
                  <a:pt x="9911" y="17446"/>
                  <a:pt x="9798" y="17438"/>
                </a:cubicBezTo>
                <a:cubicBezTo>
                  <a:pt x="9798" y="17197"/>
                  <a:pt x="9879" y="17095"/>
                  <a:pt x="10046" y="16917"/>
                </a:cubicBezTo>
              </a:path>
              <a:path w="8088" h="3250">
                <a:moveTo>
                  <a:pt x="10765" y="16346"/>
                </a:moveTo>
                <a:lnTo>
                  <a:pt x="10765" y="16346"/>
                </a:lnTo>
              </a:path>
              <a:path w="8088" h="3250">
                <a:moveTo>
                  <a:pt x="10864" y="17165"/>
                </a:moveTo>
                <a:cubicBezTo>
                  <a:pt x="10817" y="17371"/>
                  <a:pt x="10840" y="17394"/>
                  <a:pt x="10666" y="17487"/>
                </a:cubicBezTo>
              </a:path>
              <a:path w="8088" h="3250">
                <a:moveTo>
                  <a:pt x="11534" y="16197"/>
                </a:moveTo>
                <a:cubicBezTo>
                  <a:pt x="11517" y="16291"/>
                  <a:pt x="11496" y="16374"/>
                  <a:pt x="11485" y="16470"/>
                </a:cubicBezTo>
                <a:cubicBezTo>
                  <a:pt x="11651" y="16470"/>
                  <a:pt x="11695" y="16450"/>
                  <a:pt x="11857" y="16396"/>
                </a:cubicBezTo>
              </a:path>
              <a:path w="8088" h="3250">
                <a:moveTo>
                  <a:pt x="11757" y="16148"/>
                </a:moveTo>
                <a:cubicBezTo>
                  <a:pt x="11711" y="16404"/>
                  <a:pt x="11697" y="16477"/>
                  <a:pt x="11683" y="16644"/>
                </a:cubicBezTo>
              </a:path>
              <a:path w="8088" h="3250">
                <a:moveTo>
                  <a:pt x="11385" y="16892"/>
                </a:moveTo>
                <a:cubicBezTo>
                  <a:pt x="11586" y="16878"/>
                  <a:pt x="11780" y="16854"/>
                  <a:pt x="11981" y="16842"/>
                </a:cubicBezTo>
              </a:path>
              <a:path w="8088" h="3250">
                <a:moveTo>
                  <a:pt x="11757" y="17016"/>
                </a:moveTo>
                <a:cubicBezTo>
                  <a:pt x="11667" y="17016"/>
                  <a:pt x="11578" y="17016"/>
                  <a:pt x="11534" y="17115"/>
                </a:cubicBezTo>
                <a:cubicBezTo>
                  <a:pt x="11534" y="17157"/>
                  <a:pt x="11534" y="17165"/>
                  <a:pt x="11534" y="17190"/>
                </a:cubicBezTo>
                <a:cubicBezTo>
                  <a:pt x="11608" y="17263"/>
                  <a:pt x="11831" y="17243"/>
                  <a:pt x="11881" y="17314"/>
                </a:cubicBezTo>
                <a:cubicBezTo>
                  <a:pt x="12017" y="17506"/>
                  <a:pt x="11616" y="17448"/>
                  <a:pt x="11559" y="17413"/>
                </a:cubicBezTo>
                <a:cubicBezTo>
                  <a:pt x="11534" y="17388"/>
                  <a:pt x="11510" y="17363"/>
                  <a:pt x="11485" y="17338"/>
                </a:cubicBezTo>
              </a:path>
              <a:path w="8088" h="3250">
                <a:moveTo>
                  <a:pt x="12601" y="16495"/>
                </a:moveTo>
                <a:lnTo>
                  <a:pt x="12601" y="16495"/>
                </a:lnTo>
              </a:path>
              <a:path w="8088" h="3250">
                <a:moveTo>
                  <a:pt x="12601" y="17214"/>
                </a:moveTo>
                <a:cubicBezTo>
                  <a:pt x="12675" y="17386"/>
                  <a:pt x="12698" y="17417"/>
                  <a:pt x="12551" y="17537"/>
                </a:cubicBezTo>
              </a:path>
              <a:path w="8088" h="3250">
                <a:moveTo>
                  <a:pt x="13469" y="16222"/>
                </a:moveTo>
                <a:cubicBezTo>
                  <a:pt x="13583" y="16175"/>
                  <a:pt x="13722" y="16197"/>
                  <a:pt x="13618" y="16346"/>
                </a:cubicBezTo>
                <a:cubicBezTo>
                  <a:pt x="13601" y="16363"/>
                  <a:pt x="13585" y="16379"/>
                  <a:pt x="13568" y="16396"/>
                </a:cubicBezTo>
                <a:cubicBezTo>
                  <a:pt x="13635" y="16400"/>
                  <a:pt x="13986" y="16443"/>
                  <a:pt x="13816" y="16594"/>
                </a:cubicBezTo>
                <a:cubicBezTo>
                  <a:pt x="13694" y="16643"/>
                  <a:pt x="13655" y="16659"/>
                  <a:pt x="13568" y="16669"/>
                </a:cubicBezTo>
              </a:path>
              <a:path w="8088" h="3250">
                <a:moveTo>
                  <a:pt x="13543" y="16867"/>
                </a:moveTo>
                <a:cubicBezTo>
                  <a:pt x="13724" y="16863"/>
                  <a:pt x="13915" y="16846"/>
                  <a:pt x="14089" y="16867"/>
                </a:cubicBezTo>
              </a:path>
              <a:path w="8088" h="3250">
                <a:moveTo>
                  <a:pt x="13841" y="17066"/>
                </a:moveTo>
                <a:cubicBezTo>
                  <a:pt x="13696" y="17094"/>
                  <a:pt x="13595" y="17061"/>
                  <a:pt x="13568" y="17190"/>
                </a:cubicBezTo>
                <a:cubicBezTo>
                  <a:pt x="13560" y="17223"/>
                  <a:pt x="13551" y="17256"/>
                  <a:pt x="13543" y="17289"/>
                </a:cubicBezTo>
                <a:cubicBezTo>
                  <a:pt x="13647" y="17324"/>
                  <a:pt x="13795" y="17243"/>
                  <a:pt x="13915" y="17338"/>
                </a:cubicBezTo>
                <a:cubicBezTo>
                  <a:pt x="14137" y="17514"/>
                  <a:pt x="13731" y="17687"/>
                  <a:pt x="13593" y="17661"/>
                </a:cubicBezTo>
                <a:cubicBezTo>
                  <a:pt x="13543" y="17636"/>
                  <a:pt x="13494" y="17612"/>
                  <a:pt x="13444" y="17587"/>
                </a:cubicBezTo>
              </a:path>
              <a:path w="8088" h="3250">
                <a:moveTo>
                  <a:pt x="14585" y="16470"/>
                </a:moveTo>
                <a:lnTo>
                  <a:pt x="14585" y="16470"/>
                </a:lnTo>
              </a:path>
              <a:path w="8088" h="3250">
                <a:moveTo>
                  <a:pt x="14734" y="17190"/>
                </a:moveTo>
                <a:cubicBezTo>
                  <a:pt x="14774" y="17429"/>
                  <a:pt x="14777" y="17409"/>
                  <a:pt x="14610" y="17587"/>
                </a:cubicBezTo>
              </a:path>
              <a:path w="8088" h="3250">
                <a:moveTo>
                  <a:pt x="15180" y="15974"/>
                </a:moveTo>
                <a:cubicBezTo>
                  <a:pt x="15281" y="15968"/>
                  <a:pt x="15378" y="15956"/>
                  <a:pt x="15478" y="15949"/>
                </a:cubicBezTo>
                <a:cubicBezTo>
                  <a:pt x="15451" y="16095"/>
                  <a:pt x="15419" y="16228"/>
                  <a:pt x="15379" y="16371"/>
                </a:cubicBezTo>
              </a:path>
              <a:path w="8088" h="3250">
                <a:moveTo>
                  <a:pt x="15180" y="16644"/>
                </a:moveTo>
                <a:cubicBezTo>
                  <a:pt x="15363" y="16623"/>
                  <a:pt x="15542" y="16602"/>
                  <a:pt x="15726" y="16594"/>
                </a:cubicBezTo>
              </a:path>
              <a:path w="8088" h="3250">
                <a:moveTo>
                  <a:pt x="15230" y="16917"/>
                </a:moveTo>
                <a:cubicBezTo>
                  <a:pt x="15184" y="17131"/>
                  <a:pt x="15186" y="17347"/>
                  <a:pt x="15156" y="17562"/>
                </a:cubicBezTo>
              </a:path>
              <a:path w="8088" h="3250">
                <a:moveTo>
                  <a:pt x="15577" y="16917"/>
                </a:moveTo>
                <a:cubicBezTo>
                  <a:pt x="15817" y="17037"/>
                  <a:pt x="15692" y="17094"/>
                  <a:pt x="15528" y="17239"/>
                </a:cubicBezTo>
                <a:cubicBezTo>
                  <a:pt x="15503" y="17264"/>
                  <a:pt x="15478" y="17289"/>
                  <a:pt x="15453" y="17314"/>
                </a:cubicBezTo>
                <a:cubicBezTo>
                  <a:pt x="15608" y="17379"/>
                  <a:pt x="15718" y="17376"/>
                  <a:pt x="15875" y="17314"/>
                </a:cubicBezTo>
              </a:path>
              <a:path w="8088" h="3250">
                <a:moveTo>
                  <a:pt x="15999" y="17661"/>
                </a:moveTo>
                <a:cubicBezTo>
                  <a:pt x="16667" y="17319"/>
                  <a:pt x="16903" y="16771"/>
                  <a:pt x="16446" y="16073"/>
                </a:cubicBezTo>
                <a:cubicBezTo>
                  <a:pt x="16204" y="15703"/>
                  <a:pt x="15802" y="15451"/>
                  <a:pt x="15429" y="15230"/>
                </a:cubicBezTo>
                <a:cubicBezTo>
                  <a:pt x="15150" y="15065"/>
                  <a:pt x="14904" y="15007"/>
                  <a:pt x="14585" y="15032"/>
                </a:cubicBezTo>
                <a:cubicBezTo>
                  <a:pt x="14134" y="15067"/>
                  <a:pt x="13675" y="15235"/>
                  <a:pt x="13271" y="15429"/>
                </a:cubicBezTo>
                <a:cubicBezTo>
                  <a:pt x="13054" y="15533"/>
                  <a:pt x="12831" y="15688"/>
                  <a:pt x="12601" y="15751"/>
                </a:cubicBezTo>
                <a:cubicBezTo>
                  <a:pt x="12350" y="15820"/>
                  <a:pt x="12116" y="15806"/>
                  <a:pt x="11857" y="15776"/>
                </a:cubicBezTo>
                <a:cubicBezTo>
                  <a:pt x="11636" y="15750"/>
                  <a:pt x="11429" y="15672"/>
                  <a:pt x="11212" y="15627"/>
                </a:cubicBezTo>
                <a:cubicBezTo>
                  <a:pt x="10861" y="15554"/>
                  <a:pt x="10474" y="15526"/>
                  <a:pt x="10120" y="15577"/>
                </a:cubicBezTo>
                <a:cubicBezTo>
                  <a:pt x="9978" y="15597"/>
                  <a:pt x="9857" y="15623"/>
                  <a:pt x="9723" y="15627"/>
                </a:cubicBezTo>
                <a:cubicBezTo>
                  <a:pt x="9313" y="15638"/>
                  <a:pt x="8830" y="15583"/>
                  <a:pt x="8657" y="16049"/>
                </a:cubicBezTo>
                <a:cubicBezTo>
                  <a:pt x="8569" y="16286"/>
                  <a:pt x="8593" y="16596"/>
                  <a:pt x="8706" y="16818"/>
                </a:cubicBezTo>
                <a:cubicBezTo>
                  <a:pt x="8871" y="17143"/>
                  <a:pt x="9196" y="17292"/>
                  <a:pt x="9525" y="17388"/>
                </a:cubicBezTo>
                <a:cubicBezTo>
                  <a:pt x="9777" y="17462"/>
                  <a:pt x="10082" y="17369"/>
                  <a:pt x="10344" y="17388"/>
                </a:cubicBezTo>
                <a:cubicBezTo>
                  <a:pt x="10572" y="17404"/>
                  <a:pt x="10672" y="17460"/>
                  <a:pt x="10840" y="17587"/>
                </a:cubicBezTo>
                <a:cubicBezTo>
                  <a:pt x="10909" y="17639"/>
                  <a:pt x="10961" y="17746"/>
                  <a:pt x="11038" y="17785"/>
                </a:cubicBezTo>
                <a:cubicBezTo>
                  <a:pt x="11309" y="17923"/>
                  <a:pt x="11737" y="17895"/>
                  <a:pt x="12030" y="17909"/>
                </a:cubicBezTo>
                <a:cubicBezTo>
                  <a:pt x="12257" y="17920"/>
                  <a:pt x="12475" y="17951"/>
                  <a:pt x="12700" y="17983"/>
                </a:cubicBezTo>
                <a:cubicBezTo>
                  <a:pt x="13127" y="18044"/>
                  <a:pt x="13542" y="18171"/>
                  <a:pt x="13965" y="18231"/>
                </a:cubicBezTo>
                <a:cubicBezTo>
                  <a:pt x="14188" y="18263"/>
                  <a:pt x="14437" y="18270"/>
                  <a:pt x="14660" y="18231"/>
                </a:cubicBezTo>
                <a:cubicBezTo>
                  <a:pt x="14920" y="18185"/>
                  <a:pt x="15167" y="18155"/>
                  <a:pt x="15429" y="18132"/>
                </a:cubicBezTo>
                <a:cubicBezTo>
                  <a:pt x="15696" y="18109"/>
                  <a:pt x="15982" y="18149"/>
                  <a:pt x="16197" y="17959"/>
                </a:cubicBezTo>
                <a:cubicBezTo>
                  <a:pt x="16247" y="17884"/>
                  <a:pt x="16263" y="17859"/>
                  <a:pt x="16297" y="178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2960" y="2928960"/>
            <a:ext cx="849240" cy="3438360"/>
          </a:xfrm>
          <a:custGeom>
            <a:avLst/>
            <a:gdLst/>
            <a:ahLst/>
            <a:rect l="l" t="t" r="r" b="b"/>
            <a:pathLst>
              <a:path w="2358" h="9551">
                <a:moveTo>
                  <a:pt x="22225" y="8533"/>
                </a:moveTo>
                <a:cubicBezTo>
                  <a:pt x="22162" y="8491"/>
                  <a:pt x="22042" y="8431"/>
                  <a:pt x="21977" y="8533"/>
                </a:cubicBezTo>
                <a:cubicBezTo>
                  <a:pt x="21969" y="8558"/>
                  <a:pt x="21960" y="8582"/>
                  <a:pt x="21952" y="8607"/>
                </a:cubicBezTo>
                <a:cubicBezTo>
                  <a:pt x="22000" y="8783"/>
                  <a:pt x="22148" y="8700"/>
                  <a:pt x="22250" y="8830"/>
                </a:cubicBezTo>
                <a:cubicBezTo>
                  <a:pt x="22258" y="8863"/>
                  <a:pt x="22267" y="8897"/>
                  <a:pt x="22275" y="8930"/>
                </a:cubicBezTo>
                <a:cubicBezTo>
                  <a:pt x="22162" y="9042"/>
                  <a:pt x="22159" y="9065"/>
                  <a:pt x="22002" y="9054"/>
                </a:cubicBezTo>
                <a:cubicBezTo>
                  <a:pt x="22027" y="8903"/>
                  <a:pt x="22080" y="8799"/>
                  <a:pt x="22151" y="8657"/>
                </a:cubicBezTo>
              </a:path>
              <a:path w="2358" h="9551">
                <a:moveTo>
                  <a:pt x="21456" y="11485"/>
                </a:moveTo>
                <a:cubicBezTo>
                  <a:pt x="21423" y="11420"/>
                  <a:pt x="21291" y="11189"/>
                  <a:pt x="21183" y="11311"/>
                </a:cubicBezTo>
                <a:cubicBezTo>
                  <a:pt x="21138" y="11424"/>
                  <a:pt x="21122" y="11454"/>
                  <a:pt x="21134" y="11534"/>
                </a:cubicBezTo>
                <a:cubicBezTo>
                  <a:pt x="21299" y="11582"/>
                  <a:pt x="21349" y="11538"/>
                  <a:pt x="21456" y="11385"/>
                </a:cubicBezTo>
                <a:cubicBezTo>
                  <a:pt x="21456" y="11493"/>
                  <a:pt x="21456" y="11600"/>
                  <a:pt x="21456" y="11708"/>
                </a:cubicBezTo>
              </a:path>
              <a:path w="2358" h="9551">
                <a:moveTo>
                  <a:pt x="21729" y="11286"/>
                </a:moveTo>
                <a:cubicBezTo>
                  <a:pt x="21693" y="11446"/>
                  <a:pt x="21646" y="11584"/>
                  <a:pt x="21729" y="11708"/>
                </a:cubicBezTo>
                <a:cubicBezTo>
                  <a:pt x="21892" y="11646"/>
                  <a:pt x="21983" y="11394"/>
                  <a:pt x="21853" y="11509"/>
                </a:cubicBezTo>
                <a:cubicBezTo>
                  <a:pt x="21828" y="11550"/>
                  <a:pt x="21804" y="11592"/>
                  <a:pt x="21779" y="11633"/>
                </a:cubicBezTo>
              </a:path>
              <a:path w="2358" h="9551">
                <a:moveTo>
                  <a:pt x="20712" y="11559"/>
                </a:moveTo>
                <a:cubicBezTo>
                  <a:pt x="20753" y="11551"/>
                  <a:pt x="20795" y="11542"/>
                  <a:pt x="20836" y="11534"/>
                </a:cubicBezTo>
              </a:path>
              <a:path w="2358" h="9551">
                <a:moveTo>
                  <a:pt x="20762" y="11931"/>
                </a:moveTo>
                <a:cubicBezTo>
                  <a:pt x="21140" y="11951"/>
                  <a:pt x="21501" y="11894"/>
                  <a:pt x="21878" y="11881"/>
                </a:cubicBezTo>
                <a:cubicBezTo>
                  <a:pt x="21911" y="11881"/>
                  <a:pt x="21944" y="11881"/>
                  <a:pt x="21977" y="11881"/>
                </a:cubicBezTo>
              </a:path>
              <a:path w="2358" h="9551">
                <a:moveTo>
                  <a:pt x="21828" y="12080"/>
                </a:moveTo>
                <a:cubicBezTo>
                  <a:pt x="21707" y="12322"/>
                  <a:pt x="21745" y="12309"/>
                  <a:pt x="22002" y="12254"/>
                </a:cubicBezTo>
              </a:path>
              <a:path w="2358" h="9551">
                <a:moveTo>
                  <a:pt x="22002" y="12229"/>
                </a:moveTo>
                <a:cubicBezTo>
                  <a:pt x="21979" y="12385"/>
                  <a:pt x="21971" y="12426"/>
                  <a:pt x="21977" y="12526"/>
                </a:cubicBezTo>
              </a:path>
              <a:path w="2358" h="9551">
                <a:moveTo>
                  <a:pt x="22498" y="9550"/>
                </a:moveTo>
                <a:cubicBezTo>
                  <a:pt x="22439" y="9477"/>
                  <a:pt x="22423" y="9462"/>
                  <a:pt x="22324" y="9451"/>
                </a:cubicBezTo>
                <a:cubicBezTo>
                  <a:pt x="22277" y="9545"/>
                  <a:pt x="22153" y="9851"/>
                  <a:pt x="22399" y="9823"/>
                </a:cubicBezTo>
                <a:cubicBezTo>
                  <a:pt x="22610" y="9799"/>
                  <a:pt x="22532" y="9586"/>
                  <a:pt x="22473" y="9500"/>
                </a:cubicBezTo>
              </a:path>
              <a:path w="2358" h="9551">
                <a:moveTo>
                  <a:pt x="22423" y="9971"/>
                </a:moveTo>
                <a:cubicBezTo>
                  <a:pt x="22435" y="10251"/>
                  <a:pt x="22467" y="10533"/>
                  <a:pt x="22448" y="10815"/>
                </a:cubicBezTo>
                <a:cubicBezTo>
                  <a:pt x="22432" y="11041"/>
                  <a:pt x="22422" y="11258"/>
                  <a:pt x="22448" y="11485"/>
                </a:cubicBezTo>
                <a:cubicBezTo>
                  <a:pt x="22463" y="11620"/>
                  <a:pt x="22473" y="11745"/>
                  <a:pt x="22473" y="11881"/>
                </a:cubicBezTo>
              </a:path>
              <a:path w="2358" h="9551">
                <a:moveTo>
                  <a:pt x="22498" y="12055"/>
                </a:moveTo>
                <a:cubicBezTo>
                  <a:pt x="22444" y="12011"/>
                  <a:pt x="22368" y="11971"/>
                  <a:pt x="22299" y="12030"/>
                </a:cubicBezTo>
                <a:cubicBezTo>
                  <a:pt x="22235" y="12086"/>
                  <a:pt x="22173" y="12346"/>
                  <a:pt x="22299" y="12378"/>
                </a:cubicBezTo>
                <a:cubicBezTo>
                  <a:pt x="22460" y="12418"/>
                  <a:pt x="22713" y="12169"/>
                  <a:pt x="22671" y="12005"/>
                </a:cubicBezTo>
                <a:cubicBezTo>
                  <a:pt x="22646" y="11980"/>
                  <a:pt x="22622" y="11956"/>
                  <a:pt x="22597" y="11931"/>
                </a:cubicBezTo>
              </a:path>
              <a:path w="2358" h="9551">
                <a:moveTo>
                  <a:pt x="22399" y="8483"/>
                </a:moveTo>
                <a:cubicBezTo>
                  <a:pt x="22490" y="8460"/>
                  <a:pt x="22499" y="8423"/>
                  <a:pt x="22597" y="8458"/>
                </a:cubicBezTo>
                <a:cubicBezTo>
                  <a:pt x="22570" y="8576"/>
                  <a:pt x="22544" y="8602"/>
                  <a:pt x="22448" y="8682"/>
                </a:cubicBezTo>
                <a:cubicBezTo>
                  <a:pt x="22591" y="8655"/>
                  <a:pt x="22802" y="8751"/>
                  <a:pt x="22597" y="8930"/>
                </a:cubicBezTo>
                <a:cubicBezTo>
                  <a:pt x="22556" y="8946"/>
                  <a:pt x="22514" y="8963"/>
                  <a:pt x="22473" y="8979"/>
                </a:cubicBezTo>
              </a:path>
              <a:path w="2358" h="9551">
                <a:moveTo>
                  <a:pt x="21828" y="12601"/>
                </a:moveTo>
                <a:cubicBezTo>
                  <a:pt x="21918" y="12585"/>
                  <a:pt x="21982" y="12576"/>
                  <a:pt x="22076" y="12576"/>
                </a:cubicBezTo>
                <a:cubicBezTo>
                  <a:pt x="21975" y="12817"/>
                  <a:pt x="22052" y="12659"/>
                  <a:pt x="22225" y="12824"/>
                </a:cubicBezTo>
                <a:cubicBezTo>
                  <a:pt x="22319" y="12914"/>
                  <a:pt x="22012" y="12970"/>
                  <a:pt x="22002" y="12973"/>
                </a:cubicBezTo>
              </a:path>
              <a:path w="2358" h="9551">
                <a:moveTo>
                  <a:pt x="22324" y="12477"/>
                </a:moveTo>
                <a:cubicBezTo>
                  <a:pt x="22324" y="12613"/>
                  <a:pt x="22283" y="12815"/>
                  <a:pt x="22423" y="12898"/>
                </a:cubicBezTo>
                <a:cubicBezTo>
                  <a:pt x="22571" y="12986"/>
                  <a:pt x="22672" y="12765"/>
                  <a:pt x="22696" y="12675"/>
                </a:cubicBezTo>
                <a:cubicBezTo>
                  <a:pt x="22616" y="12716"/>
                  <a:pt x="22578" y="12751"/>
                  <a:pt x="22547" y="12824"/>
                </a:cubicBezTo>
              </a:path>
              <a:path w="2358" h="9551">
                <a:moveTo>
                  <a:pt x="21853" y="13146"/>
                </a:moveTo>
                <a:cubicBezTo>
                  <a:pt x="22137" y="13090"/>
                  <a:pt x="22432" y="13061"/>
                  <a:pt x="22721" y="13022"/>
                </a:cubicBezTo>
              </a:path>
              <a:path w="2358" h="9551">
                <a:moveTo>
                  <a:pt x="22523" y="13295"/>
                </a:moveTo>
                <a:cubicBezTo>
                  <a:pt x="22502" y="13434"/>
                  <a:pt x="22505" y="13556"/>
                  <a:pt x="22696" y="13519"/>
                </a:cubicBezTo>
                <a:cubicBezTo>
                  <a:pt x="22811" y="13473"/>
                  <a:pt x="22846" y="13463"/>
                  <a:pt x="22895" y="13395"/>
                </a:cubicBezTo>
              </a:path>
              <a:path w="2358" h="9551">
                <a:moveTo>
                  <a:pt x="22771" y="13370"/>
                </a:moveTo>
                <a:cubicBezTo>
                  <a:pt x="22771" y="13516"/>
                  <a:pt x="22775" y="13647"/>
                  <a:pt x="22796" y="13791"/>
                </a:cubicBezTo>
              </a:path>
              <a:path w="2358" h="9551">
                <a:moveTo>
                  <a:pt x="22324" y="8235"/>
                </a:moveTo>
                <a:cubicBezTo>
                  <a:pt x="22422" y="8194"/>
                  <a:pt x="22520" y="8164"/>
                  <a:pt x="22622" y="8136"/>
                </a:cubicBezTo>
              </a:path>
              <a:path w="2358" h="9551">
                <a:moveTo>
                  <a:pt x="21183" y="13246"/>
                </a:moveTo>
                <a:cubicBezTo>
                  <a:pt x="21001" y="13319"/>
                  <a:pt x="20973" y="13373"/>
                  <a:pt x="20985" y="13568"/>
                </a:cubicBezTo>
                <a:cubicBezTo>
                  <a:pt x="21090" y="13601"/>
                  <a:pt x="21375" y="13595"/>
                  <a:pt x="21282" y="13370"/>
                </a:cubicBezTo>
                <a:cubicBezTo>
                  <a:pt x="21249" y="13345"/>
                  <a:pt x="21216" y="13320"/>
                  <a:pt x="21183" y="13295"/>
                </a:cubicBezTo>
              </a:path>
              <a:path w="2358" h="9551">
                <a:moveTo>
                  <a:pt x="21183" y="13816"/>
                </a:moveTo>
                <a:cubicBezTo>
                  <a:pt x="21183" y="14206"/>
                  <a:pt x="21203" y="14593"/>
                  <a:pt x="21208" y="14982"/>
                </a:cubicBezTo>
                <a:cubicBezTo>
                  <a:pt x="21210" y="15102"/>
                  <a:pt x="21224" y="15211"/>
                  <a:pt x="21233" y="15329"/>
                </a:cubicBezTo>
              </a:path>
              <a:path w="2358" h="9551">
                <a:moveTo>
                  <a:pt x="21233" y="15677"/>
                </a:moveTo>
                <a:cubicBezTo>
                  <a:pt x="21145" y="15831"/>
                  <a:pt x="21100" y="15891"/>
                  <a:pt x="21233" y="16024"/>
                </a:cubicBezTo>
                <a:cubicBezTo>
                  <a:pt x="21358" y="15979"/>
                  <a:pt x="21448" y="15847"/>
                  <a:pt x="21307" y="15726"/>
                </a:cubicBezTo>
                <a:cubicBezTo>
                  <a:pt x="21274" y="15710"/>
                  <a:pt x="21241" y="15693"/>
                  <a:pt x="21208" y="15677"/>
                </a:cubicBezTo>
              </a:path>
              <a:path w="2358" h="9551">
                <a:moveTo>
                  <a:pt x="20935" y="12303"/>
                </a:moveTo>
                <a:cubicBezTo>
                  <a:pt x="20822" y="12317"/>
                  <a:pt x="20826" y="12358"/>
                  <a:pt x="20811" y="12477"/>
                </a:cubicBezTo>
                <a:cubicBezTo>
                  <a:pt x="20811" y="12493"/>
                  <a:pt x="20811" y="12510"/>
                  <a:pt x="20811" y="12526"/>
                </a:cubicBezTo>
                <a:cubicBezTo>
                  <a:pt x="20916" y="12526"/>
                  <a:pt x="21072" y="12518"/>
                  <a:pt x="21059" y="12675"/>
                </a:cubicBezTo>
                <a:cubicBezTo>
                  <a:pt x="21008" y="12778"/>
                  <a:pt x="20988" y="12814"/>
                  <a:pt x="20910" y="12849"/>
                </a:cubicBezTo>
              </a:path>
              <a:path w="2358" h="9551">
                <a:moveTo>
                  <a:pt x="20935" y="16520"/>
                </a:moveTo>
                <a:cubicBezTo>
                  <a:pt x="20908" y="16612"/>
                  <a:pt x="20877" y="16701"/>
                  <a:pt x="20861" y="16793"/>
                </a:cubicBezTo>
                <a:cubicBezTo>
                  <a:pt x="20955" y="16793"/>
                  <a:pt x="20998" y="16786"/>
                  <a:pt x="21059" y="16743"/>
                </a:cubicBezTo>
              </a:path>
              <a:path w="2358" h="9551">
                <a:moveTo>
                  <a:pt x="21134" y="16545"/>
                </a:moveTo>
                <a:cubicBezTo>
                  <a:pt x="21072" y="16710"/>
                  <a:pt x="21011" y="16873"/>
                  <a:pt x="20960" y="17041"/>
                </a:cubicBezTo>
              </a:path>
              <a:path w="2358" h="9551">
                <a:moveTo>
                  <a:pt x="21258" y="16495"/>
                </a:moveTo>
                <a:cubicBezTo>
                  <a:pt x="21189" y="16710"/>
                  <a:pt x="21153" y="16731"/>
                  <a:pt x="21258" y="16917"/>
                </a:cubicBezTo>
                <a:cubicBezTo>
                  <a:pt x="21454" y="16785"/>
                  <a:pt x="21460" y="16728"/>
                  <a:pt x="21357" y="16520"/>
                </a:cubicBezTo>
              </a:path>
              <a:path w="2358" h="9551">
                <a:moveTo>
                  <a:pt x="20712" y="17388"/>
                </a:moveTo>
                <a:cubicBezTo>
                  <a:pt x="21001" y="17301"/>
                  <a:pt x="21283" y="17221"/>
                  <a:pt x="21580" y="17190"/>
                </a:cubicBezTo>
              </a:path>
              <a:path w="2358" h="9551">
                <a:moveTo>
                  <a:pt x="21332" y="17462"/>
                </a:moveTo>
                <a:cubicBezTo>
                  <a:pt x="21289" y="17570"/>
                  <a:pt x="21266" y="17593"/>
                  <a:pt x="21307" y="17661"/>
                </a:cubicBezTo>
                <a:cubicBezTo>
                  <a:pt x="21555" y="17661"/>
                  <a:pt x="21559" y="17553"/>
                  <a:pt x="21530" y="17338"/>
                </a:cubicBezTo>
              </a:path>
              <a:path w="2358" h="9551">
                <a:moveTo>
                  <a:pt x="20538" y="16892"/>
                </a:moveTo>
                <a:cubicBezTo>
                  <a:pt x="20563" y="16892"/>
                  <a:pt x="20588" y="16892"/>
                  <a:pt x="20613" y="168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91200" y="3044880"/>
            <a:ext cx="1046160" cy="947520"/>
          </a:xfrm>
          <a:custGeom>
            <a:avLst/>
            <a:gdLst/>
            <a:ahLst/>
            <a:rect l="l" t="t" r="r" b="b"/>
            <a:pathLst>
              <a:path w="2903" h="2631">
                <a:moveTo>
                  <a:pt x="20712" y="9376"/>
                </a:moveTo>
                <a:cubicBezTo>
                  <a:pt x="20828" y="9353"/>
                  <a:pt x="20861" y="9346"/>
                  <a:pt x="20935" y="9327"/>
                </a:cubicBezTo>
                <a:cubicBezTo>
                  <a:pt x="20909" y="9521"/>
                  <a:pt x="20854" y="9704"/>
                  <a:pt x="20836" y="9897"/>
                </a:cubicBezTo>
              </a:path>
              <a:path w="2903" h="2631">
                <a:moveTo>
                  <a:pt x="20290" y="10145"/>
                </a:moveTo>
                <a:cubicBezTo>
                  <a:pt x="20250" y="9884"/>
                  <a:pt x="20215" y="9616"/>
                  <a:pt x="20241" y="9351"/>
                </a:cubicBezTo>
                <a:cubicBezTo>
                  <a:pt x="20249" y="9326"/>
                  <a:pt x="20257" y="9302"/>
                  <a:pt x="20265" y="9277"/>
                </a:cubicBezTo>
                <a:cubicBezTo>
                  <a:pt x="20516" y="9277"/>
                  <a:pt x="20760" y="9248"/>
                  <a:pt x="21010" y="9227"/>
                </a:cubicBezTo>
                <a:cubicBezTo>
                  <a:pt x="21366" y="9197"/>
                  <a:pt x="21721" y="9151"/>
                  <a:pt x="22076" y="9203"/>
                </a:cubicBezTo>
                <a:cubicBezTo>
                  <a:pt x="22169" y="9217"/>
                  <a:pt x="22235" y="9242"/>
                  <a:pt x="22324" y="9252"/>
                </a:cubicBezTo>
              </a:path>
              <a:path w="2903" h="2631">
                <a:moveTo>
                  <a:pt x="19422" y="9550"/>
                </a:moveTo>
                <a:cubicBezTo>
                  <a:pt x="19448" y="9756"/>
                  <a:pt x="19457" y="9830"/>
                  <a:pt x="19472" y="9971"/>
                </a:cubicBezTo>
              </a:path>
              <a:path w="2903" h="2631">
                <a:moveTo>
                  <a:pt x="19869" y="9500"/>
                </a:moveTo>
                <a:cubicBezTo>
                  <a:pt x="19966" y="9633"/>
                  <a:pt x="20151" y="9904"/>
                  <a:pt x="19844" y="9971"/>
                </a:cubicBezTo>
                <a:cubicBezTo>
                  <a:pt x="19752" y="9949"/>
                  <a:pt x="19722" y="9948"/>
                  <a:pt x="19720" y="9872"/>
                </a:cubicBezTo>
                <a:cubicBezTo>
                  <a:pt x="19907" y="9753"/>
                  <a:pt x="20022" y="9836"/>
                  <a:pt x="20216" y="9922"/>
                </a:cubicBezTo>
              </a:path>
              <a:path w="2903" h="2631">
                <a:moveTo>
                  <a:pt x="21208" y="9748"/>
                </a:moveTo>
                <a:cubicBezTo>
                  <a:pt x="21194" y="9814"/>
                  <a:pt x="21183" y="9914"/>
                  <a:pt x="21183" y="9847"/>
                </a:cubicBezTo>
              </a:path>
              <a:path w="2903" h="2631">
                <a:moveTo>
                  <a:pt x="21208" y="8979"/>
                </a:moveTo>
                <a:cubicBezTo>
                  <a:pt x="21208" y="8996"/>
                  <a:pt x="21208" y="9012"/>
                  <a:pt x="21208" y="9029"/>
                </a:cubicBezTo>
              </a:path>
              <a:path w="2903" h="2631">
                <a:moveTo>
                  <a:pt x="21605" y="9302"/>
                </a:moveTo>
                <a:cubicBezTo>
                  <a:pt x="21430" y="9433"/>
                  <a:pt x="21374" y="9561"/>
                  <a:pt x="21307" y="9773"/>
                </a:cubicBezTo>
                <a:cubicBezTo>
                  <a:pt x="21422" y="9798"/>
                  <a:pt x="21649" y="9832"/>
                  <a:pt x="21679" y="9649"/>
                </a:cubicBezTo>
                <a:cubicBezTo>
                  <a:pt x="21657" y="9497"/>
                  <a:pt x="21658" y="9458"/>
                  <a:pt x="21605" y="9376"/>
                </a:cubicBezTo>
              </a:path>
              <a:path w="2903" h="2631">
                <a:moveTo>
                  <a:pt x="21679" y="8483"/>
                </a:moveTo>
                <a:cubicBezTo>
                  <a:pt x="21642" y="8464"/>
                  <a:pt x="21501" y="8425"/>
                  <a:pt x="21456" y="8458"/>
                </a:cubicBezTo>
                <a:cubicBezTo>
                  <a:pt x="21404" y="8496"/>
                  <a:pt x="21431" y="8629"/>
                  <a:pt x="21431" y="8682"/>
                </a:cubicBezTo>
                <a:cubicBezTo>
                  <a:pt x="21495" y="8676"/>
                  <a:pt x="21695" y="8584"/>
                  <a:pt x="21729" y="8682"/>
                </a:cubicBezTo>
                <a:cubicBezTo>
                  <a:pt x="21801" y="8889"/>
                  <a:pt x="21659" y="8944"/>
                  <a:pt x="21506" y="8954"/>
                </a:cubicBezTo>
              </a:path>
              <a:path w="2903" h="2631">
                <a:moveTo>
                  <a:pt x="21010" y="9996"/>
                </a:moveTo>
                <a:cubicBezTo>
                  <a:pt x="20946" y="10139"/>
                  <a:pt x="20862" y="10274"/>
                  <a:pt x="20935" y="10393"/>
                </a:cubicBezTo>
                <a:cubicBezTo>
                  <a:pt x="21098" y="10355"/>
                  <a:pt x="21225" y="10312"/>
                  <a:pt x="21158" y="10145"/>
                </a:cubicBezTo>
                <a:cubicBezTo>
                  <a:pt x="21052" y="10213"/>
                  <a:pt x="21050" y="10240"/>
                  <a:pt x="21010" y="10368"/>
                </a:cubicBezTo>
              </a:path>
              <a:path w="2903" h="2631">
                <a:moveTo>
                  <a:pt x="21382" y="10071"/>
                </a:moveTo>
                <a:cubicBezTo>
                  <a:pt x="21329" y="10185"/>
                  <a:pt x="21228" y="10355"/>
                  <a:pt x="21431" y="10368"/>
                </a:cubicBezTo>
                <a:cubicBezTo>
                  <a:pt x="21672" y="10383"/>
                  <a:pt x="21584" y="10172"/>
                  <a:pt x="21506" y="10071"/>
                </a:cubicBezTo>
              </a:path>
              <a:path w="2903" h="2631">
                <a:moveTo>
                  <a:pt x="20687" y="10244"/>
                </a:moveTo>
                <a:cubicBezTo>
                  <a:pt x="20720" y="10228"/>
                  <a:pt x="20753" y="10211"/>
                  <a:pt x="20786" y="10195"/>
                </a:cubicBezTo>
              </a:path>
              <a:path w="2903" h="2631">
                <a:moveTo>
                  <a:pt x="20613" y="10567"/>
                </a:moveTo>
                <a:cubicBezTo>
                  <a:pt x="20911" y="10514"/>
                  <a:pt x="21204" y="10457"/>
                  <a:pt x="21506" y="10443"/>
                </a:cubicBezTo>
              </a:path>
              <a:path w="2903" h="2631">
                <a:moveTo>
                  <a:pt x="20886" y="10765"/>
                </a:moveTo>
                <a:cubicBezTo>
                  <a:pt x="20837" y="10934"/>
                  <a:pt x="20823" y="10988"/>
                  <a:pt x="20762" y="11088"/>
                </a:cubicBezTo>
              </a:path>
              <a:path w="2903" h="2631">
                <a:moveTo>
                  <a:pt x="21134" y="10740"/>
                </a:moveTo>
                <a:cubicBezTo>
                  <a:pt x="21064" y="10885"/>
                  <a:pt x="21038" y="10930"/>
                  <a:pt x="21059" y="11088"/>
                </a:cubicBezTo>
                <a:cubicBezTo>
                  <a:pt x="21212" y="11069"/>
                  <a:pt x="21363" y="11020"/>
                  <a:pt x="21307" y="10815"/>
                </a:cubicBezTo>
                <a:cubicBezTo>
                  <a:pt x="21256" y="10763"/>
                  <a:pt x="21237" y="10745"/>
                  <a:pt x="21183" y="10740"/>
                </a:cubicBezTo>
              </a:path>
              <a:path w="2903" h="2631">
                <a:moveTo>
                  <a:pt x="22002" y="9426"/>
                </a:moveTo>
                <a:cubicBezTo>
                  <a:pt x="21842" y="9346"/>
                  <a:pt x="21827" y="9633"/>
                  <a:pt x="21853" y="9773"/>
                </a:cubicBezTo>
                <a:cubicBezTo>
                  <a:pt x="21870" y="9798"/>
                  <a:pt x="21886" y="9822"/>
                  <a:pt x="21903" y="9847"/>
                </a:cubicBezTo>
                <a:cubicBezTo>
                  <a:pt x="22103" y="9785"/>
                  <a:pt x="22110" y="9721"/>
                  <a:pt x="21952" y="9599"/>
                </a:cubicBezTo>
              </a:path>
              <a:path w="2903" h="2631">
                <a:moveTo>
                  <a:pt x="21927" y="10046"/>
                </a:moveTo>
                <a:cubicBezTo>
                  <a:pt x="21927" y="10182"/>
                  <a:pt x="21916" y="10309"/>
                  <a:pt x="21903" y="10443"/>
                </a:cubicBezTo>
                <a:cubicBezTo>
                  <a:pt x="21903" y="10451"/>
                  <a:pt x="21903" y="10460"/>
                  <a:pt x="21903" y="10468"/>
                </a:cubicBezTo>
              </a:path>
              <a:path w="2903" h="2631">
                <a:moveTo>
                  <a:pt x="21803" y="10319"/>
                </a:moveTo>
                <a:cubicBezTo>
                  <a:pt x="21812" y="10387"/>
                  <a:pt x="21838" y="10655"/>
                  <a:pt x="21977" y="10542"/>
                </a:cubicBezTo>
                <a:cubicBezTo>
                  <a:pt x="22048" y="10446"/>
                  <a:pt x="22071" y="10417"/>
                  <a:pt x="22101" y="10344"/>
                </a:cubicBezTo>
              </a:path>
              <a:path w="2903" h="2631">
                <a:moveTo>
                  <a:pt x="21878" y="10641"/>
                </a:moveTo>
                <a:cubicBezTo>
                  <a:pt x="21741" y="10675"/>
                  <a:pt x="21603" y="10800"/>
                  <a:pt x="21580" y="10964"/>
                </a:cubicBezTo>
                <a:cubicBezTo>
                  <a:pt x="21588" y="10989"/>
                  <a:pt x="21597" y="11013"/>
                  <a:pt x="21605" y="11038"/>
                </a:cubicBezTo>
                <a:cubicBezTo>
                  <a:pt x="21833" y="10989"/>
                  <a:pt x="21868" y="10905"/>
                  <a:pt x="21878" y="106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6160" y="4394160"/>
            <a:ext cx="963720" cy="1436760"/>
          </a:xfrm>
          <a:custGeom>
            <a:avLst/>
            <a:gdLst/>
            <a:ahLst/>
            <a:rect l="l" t="t" r="r" b="b"/>
            <a:pathLst>
              <a:path w="2680" h="3994">
                <a:moveTo>
                  <a:pt x="19224" y="13320"/>
                </a:moveTo>
                <a:cubicBezTo>
                  <a:pt x="19351" y="13320"/>
                  <a:pt x="19471" y="13294"/>
                  <a:pt x="19596" y="13271"/>
                </a:cubicBezTo>
                <a:cubicBezTo>
                  <a:pt x="19572" y="13424"/>
                  <a:pt x="19514" y="13559"/>
                  <a:pt x="19496" y="13717"/>
                </a:cubicBezTo>
              </a:path>
              <a:path w="2680" h="3994">
                <a:moveTo>
                  <a:pt x="19075" y="13841"/>
                </a:moveTo>
                <a:cubicBezTo>
                  <a:pt x="19047" y="13602"/>
                  <a:pt x="19026" y="13362"/>
                  <a:pt x="19000" y="13122"/>
                </a:cubicBezTo>
                <a:cubicBezTo>
                  <a:pt x="19000" y="13105"/>
                  <a:pt x="19000" y="13089"/>
                  <a:pt x="19000" y="13072"/>
                </a:cubicBezTo>
                <a:cubicBezTo>
                  <a:pt x="19328" y="12978"/>
                  <a:pt x="19696" y="13018"/>
                  <a:pt x="20042" y="12973"/>
                </a:cubicBezTo>
                <a:cubicBezTo>
                  <a:pt x="20334" y="12935"/>
                  <a:pt x="20697" y="12801"/>
                  <a:pt x="20985" y="12849"/>
                </a:cubicBezTo>
              </a:path>
              <a:path w="2680" h="3994">
                <a:moveTo>
                  <a:pt x="18777" y="13146"/>
                </a:moveTo>
                <a:cubicBezTo>
                  <a:pt x="18643" y="13199"/>
                  <a:pt x="18530" y="13268"/>
                  <a:pt x="18405" y="13345"/>
                </a:cubicBezTo>
                <a:cubicBezTo>
                  <a:pt x="18531" y="13445"/>
                  <a:pt x="18699" y="13489"/>
                  <a:pt x="18827" y="13618"/>
                </a:cubicBezTo>
                <a:cubicBezTo>
                  <a:pt x="18648" y="13724"/>
                  <a:pt x="18613" y="13607"/>
                  <a:pt x="18653" y="13419"/>
                </a:cubicBezTo>
                <a:cubicBezTo>
                  <a:pt x="18696" y="13292"/>
                  <a:pt x="18700" y="13261"/>
                  <a:pt x="18752" y="13196"/>
                </a:cubicBezTo>
              </a:path>
              <a:path w="2680" h="3994">
                <a:moveTo>
                  <a:pt x="19819" y="13568"/>
                </a:moveTo>
                <a:lnTo>
                  <a:pt x="19819" y="13568"/>
                </a:lnTo>
              </a:path>
              <a:path w="2680" h="3994">
                <a:moveTo>
                  <a:pt x="19794" y="12874"/>
                </a:moveTo>
                <a:lnTo>
                  <a:pt x="19794" y="12874"/>
                </a:lnTo>
              </a:path>
              <a:path w="2680" h="3994">
                <a:moveTo>
                  <a:pt x="20216" y="13196"/>
                </a:moveTo>
                <a:cubicBezTo>
                  <a:pt x="20096" y="13220"/>
                  <a:pt x="20067" y="13355"/>
                  <a:pt x="20067" y="13469"/>
                </a:cubicBezTo>
                <a:cubicBezTo>
                  <a:pt x="20067" y="13584"/>
                  <a:pt x="20288" y="13630"/>
                  <a:pt x="20365" y="13568"/>
                </a:cubicBezTo>
                <a:cubicBezTo>
                  <a:pt x="20481" y="13474"/>
                  <a:pt x="20337" y="13297"/>
                  <a:pt x="20265" y="13246"/>
                </a:cubicBezTo>
                <a:cubicBezTo>
                  <a:pt x="20249" y="13238"/>
                  <a:pt x="20232" y="13229"/>
                  <a:pt x="20216" y="13221"/>
                </a:cubicBezTo>
              </a:path>
              <a:path w="2680" h="3994">
                <a:moveTo>
                  <a:pt x="20117" y="12204"/>
                </a:moveTo>
                <a:cubicBezTo>
                  <a:pt x="20007" y="12251"/>
                  <a:pt x="19789" y="12323"/>
                  <a:pt x="19943" y="12477"/>
                </a:cubicBezTo>
                <a:cubicBezTo>
                  <a:pt x="20061" y="12547"/>
                  <a:pt x="20098" y="12567"/>
                  <a:pt x="20141" y="12650"/>
                </a:cubicBezTo>
                <a:cubicBezTo>
                  <a:pt x="20088" y="12731"/>
                  <a:pt x="20066" y="12759"/>
                  <a:pt x="19993" y="12774"/>
                </a:cubicBezTo>
                <a:cubicBezTo>
                  <a:pt x="19918" y="12675"/>
                  <a:pt x="20026" y="12553"/>
                  <a:pt x="20092" y="12378"/>
                </a:cubicBezTo>
              </a:path>
              <a:path w="2680" h="3994">
                <a:moveTo>
                  <a:pt x="19496" y="13891"/>
                </a:moveTo>
                <a:cubicBezTo>
                  <a:pt x="19466" y="14038"/>
                  <a:pt x="19439" y="14146"/>
                  <a:pt x="19447" y="14288"/>
                </a:cubicBezTo>
                <a:cubicBezTo>
                  <a:pt x="19515" y="14276"/>
                  <a:pt x="19804" y="14196"/>
                  <a:pt x="19745" y="14064"/>
                </a:cubicBezTo>
                <a:cubicBezTo>
                  <a:pt x="19676" y="13911"/>
                  <a:pt x="19576" y="14200"/>
                  <a:pt x="19571" y="14213"/>
                </a:cubicBezTo>
              </a:path>
              <a:path w="2680" h="3994">
                <a:moveTo>
                  <a:pt x="20067" y="13866"/>
                </a:moveTo>
                <a:cubicBezTo>
                  <a:pt x="20067" y="13988"/>
                  <a:pt x="20061" y="14065"/>
                  <a:pt x="20216" y="14015"/>
                </a:cubicBezTo>
                <a:cubicBezTo>
                  <a:pt x="20249" y="13998"/>
                  <a:pt x="20282" y="13982"/>
                  <a:pt x="20315" y="13965"/>
                </a:cubicBezTo>
              </a:path>
              <a:path w="2680" h="3994">
                <a:moveTo>
                  <a:pt x="20290" y="13791"/>
                </a:moveTo>
                <a:cubicBezTo>
                  <a:pt x="20237" y="13958"/>
                  <a:pt x="20232" y="14125"/>
                  <a:pt x="20191" y="14288"/>
                </a:cubicBezTo>
              </a:path>
              <a:path w="2680" h="3994">
                <a:moveTo>
                  <a:pt x="19273" y="14511"/>
                </a:moveTo>
                <a:cubicBezTo>
                  <a:pt x="19635" y="14420"/>
                  <a:pt x="19996" y="14345"/>
                  <a:pt x="20365" y="14288"/>
                </a:cubicBezTo>
              </a:path>
              <a:path w="2680" h="3994">
                <a:moveTo>
                  <a:pt x="20216" y="14560"/>
                </a:moveTo>
                <a:cubicBezTo>
                  <a:pt x="20216" y="14698"/>
                  <a:pt x="20221" y="14821"/>
                  <a:pt x="20241" y="14957"/>
                </a:cubicBezTo>
                <a:cubicBezTo>
                  <a:pt x="20351" y="14966"/>
                  <a:pt x="20570" y="14911"/>
                  <a:pt x="20538" y="14734"/>
                </a:cubicBezTo>
                <a:cubicBezTo>
                  <a:pt x="20525" y="14661"/>
                  <a:pt x="20379" y="14882"/>
                  <a:pt x="20365" y="14908"/>
                </a:cubicBezTo>
              </a:path>
              <a:path w="2680" h="3994">
                <a:moveTo>
                  <a:pt x="20687" y="13097"/>
                </a:moveTo>
                <a:cubicBezTo>
                  <a:pt x="20653" y="13063"/>
                  <a:pt x="20632" y="13055"/>
                  <a:pt x="20588" y="13072"/>
                </a:cubicBezTo>
                <a:cubicBezTo>
                  <a:pt x="20542" y="13163"/>
                  <a:pt x="20386" y="13490"/>
                  <a:pt x="20638" y="13419"/>
                </a:cubicBezTo>
                <a:cubicBezTo>
                  <a:pt x="20800" y="13374"/>
                  <a:pt x="20802" y="13299"/>
                  <a:pt x="20762" y="13196"/>
                </a:cubicBezTo>
              </a:path>
              <a:path w="2680" h="3994">
                <a:moveTo>
                  <a:pt x="20638" y="13643"/>
                </a:moveTo>
                <a:cubicBezTo>
                  <a:pt x="20638" y="13775"/>
                  <a:pt x="20638" y="13907"/>
                  <a:pt x="20638" y="14039"/>
                </a:cubicBezTo>
              </a:path>
              <a:path w="2680" h="3994">
                <a:moveTo>
                  <a:pt x="20811" y="14387"/>
                </a:moveTo>
                <a:cubicBezTo>
                  <a:pt x="20682" y="14493"/>
                  <a:pt x="20647" y="14604"/>
                  <a:pt x="20712" y="14759"/>
                </a:cubicBezTo>
                <a:cubicBezTo>
                  <a:pt x="20934" y="14696"/>
                  <a:pt x="20876" y="14552"/>
                  <a:pt x="20836" y="14337"/>
                </a:cubicBezTo>
              </a:path>
              <a:path w="2680" h="3994">
                <a:moveTo>
                  <a:pt x="20365" y="12278"/>
                </a:moveTo>
                <a:cubicBezTo>
                  <a:pt x="20456" y="12278"/>
                  <a:pt x="20547" y="12278"/>
                  <a:pt x="20638" y="12278"/>
                </a:cubicBezTo>
                <a:cubicBezTo>
                  <a:pt x="20599" y="12433"/>
                  <a:pt x="20531" y="12607"/>
                  <a:pt x="20563" y="12750"/>
                </a:cubicBezTo>
              </a:path>
              <a:path w="2680" h="3994">
                <a:moveTo>
                  <a:pt x="20414" y="15056"/>
                </a:moveTo>
                <a:cubicBezTo>
                  <a:pt x="20310" y="15098"/>
                  <a:pt x="20283" y="15100"/>
                  <a:pt x="20241" y="15156"/>
                </a:cubicBezTo>
                <a:cubicBezTo>
                  <a:pt x="20324" y="15254"/>
                  <a:pt x="20511" y="15199"/>
                  <a:pt x="20563" y="15329"/>
                </a:cubicBezTo>
                <a:cubicBezTo>
                  <a:pt x="20622" y="15477"/>
                  <a:pt x="20357" y="15498"/>
                  <a:pt x="20290" y="15453"/>
                </a:cubicBezTo>
                <a:cubicBezTo>
                  <a:pt x="20274" y="15428"/>
                  <a:pt x="20257" y="15404"/>
                  <a:pt x="20241" y="15379"/>
                </a:cubicBezTo>
              </a:path>
              <a:path w="2680" h="3994">
                <a:moveTo>
                  <a:pt x="20786" y="15056"/>
                </a:moveTo>
                <a:cubicBezTo>
                  <a:pt x="20772" y="15132"/>
                  <a:pt x="20664" y="15321"/>
                  <a:pt x="20786" y="15354"/>
                </a:cubicBezTo>
                <a:cubicBezTo>
                  <a:pt x="20888" y="15354"/>
                  <a:pt x="20922" y="15353"/>
                  <a:pt x="20960" y="15280"/>
                </a:cubicBezTo>
                <a:cubicBezTo>
                  <a:pt x="20984" y="15207"/>
                  <a:pt x="20906" y="15317"/>
                  <a:pt x="20861" y="15379"/>
                </a:cubicBezTo>
              </a:path>
              <a:path w="2680" h="3994">
                <a:moveTo>
                  <a:pt x="20489" y="15602"/>
                </a:moveTo>
                <a:cubicBezTo>
                  <a:pt x="20688" y="15567"/>
                  <a:pt x="20891" y="15517"/>
                  <a:pt x="21084" y="15528"/>
                </a:cubicBezTo>
              </a:path>
              <a:path w="2680" h="3994">
                <a:moveTo>
                  <a:pt x="20886" y="15850"/>
                </a:moveTo>
                <a:cubicBezTo>
                  <a:pt x="20852" y="15924"/>
                  <a:pt x="20820" y="15999"/>
                  <a:pt x="20786" y="16073"/>
                </a:cubicBezTo>
                <a:cubicBezTo>
                  <a:pt x="20916" y="16048"/>
                  <a:pt x="20963" y="16037"/>
                  <a:pt x="21034" y="15974"/>
                </a:cubicBezTo>
              </a:path>
              <a:path w="2680" h="3994">
                <a:moveTo>
                  <a:pt x="21059" y="15925"/>
                </a:moveTo>
                <a:cubicBezTo>
                  <a:pt x="21029" y="16020"/>
                  <a:pt x="20999" y="16100"/>
                  <a:pt x="20985" y="16197"/>
                </a:cubicBezTo>
              </a:path>
              <a:path w="2680" h="3994">
                <a:moveTo>
                  <a:pt x="19968" y="15553"/>
                </a:moveTo>
                <a:cubicBezTo>
                  <a:pt x="19984" y="15536"/>
                  <a:pt x="20001" y="15520"/>
                  <a:pt x="20017" y="15503"/>
                </a:cubicBezTo>
              </a:path>
              <a:path w="2680" h="3994">
                <a:moveTo>
                  <a:pt x="19149" y="14238"/>
                </a:moveTo>
                <a:cubicBezTo>
                  <a:pt x="19222" y="14201"/>
                  <a:pt x="19263" y="14183"/>
                  <a:pt x="19323" y="1416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order fractions and decim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those Frac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fraction cubes and 2 decimal cub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Roll all 4 cub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Change all fractions into decimals on scrap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Put your cubes in order from least to greatest on your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Copy the numbers on your cubes onto paper in order from least to grea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Repeat steps 1-4 alternating least to greatest and then greatest to le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order fractions and decimal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bottom of your paper convert the following fractions into decimals and order least to grea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84  ;      ;  .804 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08680" y="159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052880" y="3733920"/>
                <a:ext cx="28908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986440" y="3657600"/>
                <a:ext cx="30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pg. 67 10 -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nvert all fractions to decimals before ordering - be sure to show work on the page or separate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1:27:26Z</dcterms:created>
  <dc:creator>Brian McGrath</dc:creator>
  <dc:description/>
  <dc:language>en-US</dc:language>
  <cp:lastModifiedBy>deanne elizabeth mcgrath</cp:lastModifiedBy>
  <dcterms:modified xsi:type="dcterms:W3CDTF">2010-10-25T17:52:51Z</dcterms:modified>
  <cp:revision>3</cp:revision>
  <dc:subject/>
  <dc:title>Warm-up</dc:title>
</cp:coreProperties>
</file>